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321-6541-4225-B7E5-90D11EC6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B29-F9EC-4DE6-AA25-055EE796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C80-4C14-42D9-A76C-1EA2CFE1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260-5203-40D6-9B10-3CAC02F8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F80-0358-4D4D-AFE5-C0F673AA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725-C4A9-42FB-A942-9F042ACC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280-BB51-4991-B533-11031BAA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B30-96B6-4D0B-9C28-2330671A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F2D-DC7E-4C60-9721-9E3CA9A7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B5F-1B7C-46AA-93BD-51FA89AD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CB2-9B8B-470C-979D-AA842C6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92E-5A11-4147-879D-8DA84334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530D-C808-460E-8544-9A0D527E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28600"/>
            <a:ext cx="8229600" cy="5897520"/>
            <a:chOff x="457200" y="228600"/>
            <a:chExt cx="8229600" cy="58975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8229600" cy="58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457200" y="228600"/>
              <a:ext cx="8229600" cy="589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6:17:53Z</dcterms:created>
  <dc:creator> </dc:creator>
  <dc:description/>
  <dc:language>en-US</dc:language>
  <cp:lastModifiedBy> </cp:lastModifiedBy>
  <dcterms:modified xsi:type="dcterms:W3CDTF">2009-05-12T16:17:32Z</dcterms:modified>
  <cp:revision>4</cp:revision>
  <dc:subject/>
  <dc:title>Slide 1</dc:title>
</cp:coreProperties>
</file>