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7C2-63DE-4CAE-94E0-6EF001B7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92C-8B16-45ED-9BBD-873D1D6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06C-854C-41DB-8B4E-330BE57B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A38-EB24-458A-B274-B8AFAC2A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A78-E535-49F1-8A7B-1B2FB087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C71-A891-44B1-97A2-5ED8C65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399-76B6-4962-9FF8-4B6EE62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5F3-AED5-4BD0-8F03-DFD3EBA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23A-760D-48B8-A3E2-8B38155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F2D-3782-401D-9079-DD07740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4C0-9733-41DD-8982-CFC33D1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A77-8D9B-4C4F-A80E-6736497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277-C4DB-4B9D-BD0F-4FBE2A57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28600"/>
            <a:ext cx="8229600" cy="5897520"/>
            <a:chOff x="457200" y="228600"/>
            <a:chExt cx="8229600" cy="58975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8229600" cy="58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457200" y="228600"/>
              <a:ext cx="8229600" cy="589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17:53Z</dcterms:created>
  <dc:creator> </dc:creator>
  <dc:description/>
  <dc:language>en-US</dc:language>
  <cp:lastModifiedBy> </cp:lastModifiedBy>
  <dcterms:modified xsi:type="dcterms:W3CDTF">2009-05-12T16:17:32Z</dcterms:modified>
  <cp:revision>4</cp:revision>
  <dc:subject/>
  <dc:title>Slide 1</dc:title>
</cp:coreProperties>
</file>