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7C4-F7E3-4D61-8316-615F792B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5CF-4EED-45DF-8C57-AFFD4A5C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A68-AE89-4A3A-A941-721E3BB3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4D6-58B4-4447-AB00-C1C36269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B3F-D7CB-4CA3-ACC3-A82B6D4B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12B-2380-4F84-B2FA-B949EAA2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664-BE5D-4067-B55F-B9C3BDB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E8B-2B40-4447-921B-4D4A338E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809-4005-4979-B244-F74AC920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AF4-FD92-49A1-B2E9-4E7A887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DCD-64B1-4644-B177-4D29813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288-D496-447E-8217-3C719CC3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865-2F7F-4B28-8587-F9A66E52A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28600"/>
            <a:ext cx="8229600" cy="5897520"/>
            <a:chOff x="457200" y="228600"/>
            <a:chExt cx="8229600" cy="58975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8229600" cy="58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457200" y="228600"/>
              <a:ext cx="8229600" cy="589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17:53Z</dcterms:created>
  <dc:creator> </dc:creator>
  <dc:description/>
  <dc:language>en-US</dc:language>
  <cp:lastModifiedBy> </cp:lastModifiedBy>
  <dcterms:modified xsi:type="dcterms:W3CDTF">2009-05-12T16:17:32Z</dcterms:modified>
  <cp:revision>4</cp:revision>
  <dc:subject/>
  <dc:title>Slide 1</dc:title>
</cp:coreProperties>
</file>