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097-B18F-4F77-BABA-D6C25DA0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806-609C-4F66-AE27-2158DA59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05F-3A9F-4A5E-8E09-5B6DD53F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CBA-81A5-447A-916A-17C520AB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FFD-98EA-40A9-9248-8242918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CB5-D430-4197-9511-0ABC7F9B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D51-BC47-42E5-97AC-C6AB6D9E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FA0-7680-4410-BDF8-EF8F343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463-7950-4D78-85FE-BDFC9D1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4B9-D067-4FF4-BC47-40B0173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799-81F2-46BD-93E6-9BFA29D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51A-498D-480C-8DE1-CA38409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A49-3479-4650-875E-03F44CF2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28600"/>
            <a:ext cx="8229600" cy="5897520"/>
            <a:chOff x="457200" y="228600"/>
            <a:chExt cx="8229600" cy="58975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8229600" cy="58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457200" y="228600"/>
              <a:ext cx="8229600" cy="589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17:53Z</dcterms:created>
  <dc:creator> </dc:creator>
  <dc:description/>
  <dc:language>en-US</dc:language>
  <cp:lastModifiedBy> </cp:lastModifiedBy>
  <dcterms:modified xsi:type="dcterms:W3CDTF">2009-05-12T16:17:32Z</dcterms:modified>
  <cp:revision>4</cp:revision>
  <dc:subject/>
  <dc:title>Slide 1</dc:title>
</cp:coreProperties>
</file>