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D67-B993-4E90-9266-3546F427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6CF-A44C-4AE0-9DE2-7FCBD48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428-253D-4FBA-A9FA-87619F71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555-2426-40FA-BF26-262EBA91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C88-7C40-4837-8F05-3ACCD37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0B-1E72-4AF0-BD1A-F514255D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D5A-C8BD-41A8-9723-8F2A8DA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380-AF22-4BB2-9298-E16066E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C93-5C89-41F9-B928-E2BD22BF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8A0-DE0C-4526-9472-098BB5B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983-A530-42F5-8282-984FB7B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BC2-ED1B-43BE-88A9-65641CE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1E41-1C47-44D4-9A6B-48909A1C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29:22Z</dcterms:created>
  <dc:creator>FHSD</dc:creator>
  <dc:description/>
  <dc:language>en-US</dc:language>
  <cp:lastModifiedBy>FHSD</cp:lastModifiedBy>
  <dcterms:modified xsi:type="dcterms:W3CDTF">2009-02-11T18:29:51Z</dcterms:modified>
  <cp:revision>1</cp:revision>
  <dc:subject/>
  <dc:title>Slide 1</dc:title>
</cp:coreProperties>
</file>