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4A29-F920-472D-8CD6-B1E987B3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09C3-06F5-431D-9E0D-C898D709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DCF8-9007-46AF-BFCE-F5A10D612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30F3-3E77-45B7-8858-ED6664C9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4CE1-62D2-45C7-B84F-465C24AB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CFC8-F010-4C92-9CCE-2ADEFDB8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4D6F-599F-41D7-8009-CD096E04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AAD8-E629-4925-BDCA-03F6FDFA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04B6-7CE5-48E0-BDCC-70A03916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79A2-0B60-4258-85C3-EC90EC29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77F5-5567-428A-A512-8D6F2A7D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C393-748F-4776-A358-8F531FA8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632C-088D-4FE1-B52E-472A6E12A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8:29:22Z</dcterms:created>
  <dc:creator>FHSD</dc:creator>
  <dc:description/>
  <dc:language>en-US</dc:language>
  <cp:lastModifiedBy>FHSD</cp:lastModifiedBy>
  <dcterms:modified xsi:type="dcterms:W3CDTF">2009-02-11T18:29:51Z</dcterms:modified>
  <cp:revision>1</cp:revision>
  <dc:subject/>
  <dc:title>Slide 1</dc:title>
</cp:coreProperties>
</file>