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CFC3-EB0D-4362-80A7-3DD14575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8400-4B92-469C-B693-C347F208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518F-D400-4CF5-BDE8-18618BBD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1D6A-681E-4EF3-8204-18A0FA5E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D3AD-AB0B-409C-95B6-E6069C2F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953D-1D4C-4F3E-96AD-1FBB5E32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E5A1-28D4-4369-8CF2-9A5E625E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C9B8-0768-46D2-BDFF-87DB9082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C63C-FE27-43C4-8931-BC26A34F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D0BF-24D0-459B-A31B-FB334AA0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C7AA-934A-4D56-AA0A-5FBC8290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92FA-FA3C-47DF-A327-E6F9CE8B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E73A-FFC8-438D-A41A-06C90F46F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8:29:22Z</dcterms:created>
  <dc:creator>FHSD</dc:creator>
  <dc:description/>
  <dc:language>en-US</dc:language>
  <cp:lastModifiedBy>FHSD</cp:lastModifiedBy>
  <dcterms:modified xsi:type="dcterms:W3CDTF">2009-02-11T18:29:51Z</dcterms:modified>
  <cp:revision>1</cp:revision>
  <dc:subject/>
  <dc:title>Slide 1</dc:title>
</cp:coreProperties>
</file>