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18A-6764-4AF6-A1B6-DE868689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B28-31E3-4F8A-82BA-576C7366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506-5007-43E4-B9B0-C53A5408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B94-38E8-4B90-BE3C-A54226DD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F3E-B4CF-4FFF-9120-BB28DB86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1E2F-3754-4E76-9D79-4D657687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F1F-85C7-4D46-8D21-BCE533C5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419-7F3D-4A31-94BC-2AEBFBC9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49E-E544-4D31-9C40-4AAFA9B6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B35-A873-46AF-99ED-46C57FBB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FB8-4ADE-4469-8E47-231C0034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082-9B9B-415F-954E-16354F8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B0D7-F272-4B7F-BB9D-B1AA5153B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29:22Z</dcterms:created>
  <dc:creator>FHSD</dc:creator>
  <dc:description/>
  <dc:language>en-US</dc:language>
  <cp:lastModifiedBy>FHSD</cp:lastModifiedBy>
  <dcterms:modified xsi:type="dcterms:W3CDTF">2009-02-11T18:29:51Z</dcterms:modified>
  <cp:revision>1</cp:revision>
  <dc:subject/>
  <dc:title>Slide 1</dc:title>
</cp:coreProperties>
</file>