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14F9-EF0A-478E-892F-F03F7CED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DF26-0756-4B5A-9541-BB68CFDC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A6B7-33E4-4F3C-AC97-C9349478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9E68-CDB1-4CA9-A791-43AAA9C5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1B7B-A653-46F9-BD91-848DE1C6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E3FF-3C52-4674-85F9-59EE36AA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5A74-974F-4622-A12D-2783454A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A403-EE9D-40D2-9445-E347EAFD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E39F-D853-408A-A145-6F1FDE42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BE63-EDCB-4B2F-9F94-2D83C25D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BD5-BCC4-48BA-9803-43772313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ED8F-75CA-4ECE-8F3D-19172F45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7154-26B8-4204-87B0-3071976C3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8:29:22Z</dcterms:created>
  <dc:creator>FHSD</dc:creator>
  <dc:description/>
  <dc:language>en-US</dc:language>
  <cp:lastModifiedBy>FHSD</cp:lastModifiedBy>
  <dcterms:modified xsi:type="dcterms:W3CDTF">2009-02-11T18:29:51Z</dcterms:modified>
  <cp:revision>1</cp:revision>
  <dc:subject/>
  <dc:title>Slide 1</dc:title>
</cp:coreProperties>
</file>