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BF0-26B3-4141-BD0A-01F33C77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C99-9A19-41E9-A14B-2F16C9F6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44D-1701-4097-B83B-638C35C0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350-D545-4984-8C75-B17E07F6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CEB-9B75-471D-8D8F-58C1E5FA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ACE-A68D-417A-9AD9-51AB1013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775-3BF7-4C72-B378-75EA9A5D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12D-D7BB-4F85-951B-93B0772D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6F7-8B1F-4F0B-9854-9EC0C8F9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568-D6D0-4CE1-B9E6-D57F8CA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8DF-2C3E-47AB-8363-50E9C99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17C-1F40-40F3-B459-A1BBA4ED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8C3-FEF6-4BAB-B56C-D2FA3472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Thomas Ed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lle Rob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Edis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born February 11 184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oved to port Huron Michigan, soon after he became an inven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nven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onograph in 187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91 he invented the electric light bul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motion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!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3-1869 He worked as a telegraph operator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1 he married Mary Stilwell on the date of December 25.  A couple years later she died, after that he was remar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in West Orange ,New Jersey, on October 18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warded the Congressional  Medal of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06:51Z</dcterms:created>
  <dc:creator>Teresa Robinson</dc:creator>
  <dc:description/>
  <dc:language>en-US</dc:language>
  <cp:lastModifiedBy>Teresa Robinson</cp:lastModifiedBy>
  <dcterms:modified xsi:type="dcterms:W3CDTF">2009-05-14T01:37:05Z</dcterms:modified>
  <cp:revision>4</cp:revision>
  <dc:subject/>
  <dc:title>Thomas Edi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5094108</vt:r8>
  </property>
  <property fmtid="{D5CDD505-2E9C-101B-9397-08002B2CF9AE}" pid="3" name="_AuthorEmail">
    <vt:lpwstr>trobinson5972@cinci.rr.com</vt:lpwstr>
  </property>
  <property fmtid="{D5CDD505-2E9C-101B-9397-08002B2CF9AE}" pid="4" name="_AuthorEmailDisplayName">
    <vt:lpwstr>Teresa Robinson</vt:lpwstr>
  </property>
  <property fmtid="{D5CDD505-2E9C-101B-9397-08002B2CF9AE}" pid="5" name="_EmailSubject">
    <vt:lpwstr/>
  </property>
</Properties>
</file>