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9E7-118B-4393-BDD2-0E4B161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1A9-7522-4E6B-9C8E-F1B0751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E67-05D4-452B-BF6C-92F42485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417-0ECE-44D8-937C-765D2C03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50C-72A1-4D29-B4F3-F42034B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6B1-A83D-4F2C-80F1-CD2DD0F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798-F572-49EC-93A7-BDCC99DA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120-1E95-40DB-A417-60769366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A2E-F81D-4F43-A655-E51C682E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5EF-CCC0-4C4C-819F-A27A789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929-9ECE-49D3-A218-B1CB7E8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C32-6591-4D87-9D6E-353743D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E4D6-BC03-415F-9FED-43BAA865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Thomas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lle Rob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Edi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February 11 184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port Huron Michigan, soon after he became an inven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nven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ograph in 187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91 he invented the electric light bul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motion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3-1869 He worked as a telegraph operator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 he married Mary Stilwell on the date of December 25.  A couple years later she died, after that he was re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est Orange ,New Jersey, on October 1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warded the Congressional  Medal of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06:51Z</dcterms:created>
  <dc:creator>Teresa Robinson</dc:creator>
  <dc:description/>
  <dc:language>en-US</dc:language>
  <cp:lastModifiedBy>Teresa Robinson</cp:lastModifiedBy>
  <dcterms:modified xsi:type="dcterms:W3CDTF">2009-05-14T01:37:05Z</dcterms:modified>
  <cp:revision>4</cp:revision>
  <dc:subject/>
  <dc:title>Thomas Edi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094108</vt:r8>
  </property>
  <property fmtid="{D5CDD505-2E9C-101B-9397-08002B2CF9AE}" pid="3" name="_AuthorEmail">
    <vt:lpwstr>trobinson5972@cinci.rr.com</vt:lpwstr>
  </property>
  <property fmtid="{D5CDD505-2E9C-101B-9397-08002B2CF9AE}" pid="4" name="_AuthorEmailDisplayName">
    <vt:lpwstr>Teresa Robinson</vt:lpwstr>
  </property>
  <property fmtid="{D5CDD505-2E9C-101B-9397-08002B2CF9AE}" pid="5" name="_EmailSubject">
    <vt:lpwstr/>
  </property>
</Properties>
</file>