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B473-F48F-43D1-A6D4-59287BA64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17A3-0F54-4522-B46A-7C85204B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671E-37F5-47E0-9739-27234A03C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FAB4-75D6-46F8-B060-DFFB79DF0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7307-E65F-4434-B100-3D5A3339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825C-037F-4DF7-9BC5-60E09B82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2797-E6C0-498D-8FDB-EFE15649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E17F-ED4A-4A61-9A76-78E7B7B9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26A9-5F7F-48DF-8B44-D153326F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C27F-CFD2-4C7F-A2C0-7E2355A1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C4E6-52E5-4C35-8850-C176E12B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5765-726C-4811-81C2-57428716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6428-7ECA-44C3-B7E6-F932F993D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About Thomas Edi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elle Robi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omas Edis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born February 11 1847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moved to port Huron Michigan, soon after he became an inven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invent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onograph in 1877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891 he invented the electric light bulb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motion cam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s!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63-1869 He worked as a telegraph operator in Can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71 he married Mary Stilwell on the date of December 25.  A couple years later she died, after that he was remarr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died in West Orange ,New Jersey, on October 18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awarded the Congressional  Medal of Hon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20:06:51Z</dcterms:created>
  <dc:creator>Teresa Robinson</dc:creator>
  <dc:description/>
  <dc:language>en-US</dc:language>
  <cp:lastModifiedBy>Teresa Robinson</cp:lastModifiedBy>
  <dcterms:modified xsi:type="dcterms:W3CDTF">2009-05-14T01:37:05Z</dcterms:modified>
  <cp:revision>4</cp:revision>
  <dc:subject/>
  <dc:title>Thomas Edis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5094108</vt:r8>
  </property>
  <property fmtid="{D5CDD505-2E9C-101B-9397-08002B2CF9AE}" pid="3" name="_AuthorEmail">
    <vt:lpwstr>trobinson5972@cinci.rr.com</vt:lpwstr>
  </property>
  <property fmtid="{D5CDD505-2E9C-101B-9397-08002B2CF9AE}" pid="4" name="_AuthorEmailDisplayName">
    <vt:lpwstr>Teresa Robinson</vt:lpwstr>
  </property>
  <property fmtid="{D5CDD505-2E9C-101B-9397-08002B2CF9AE}" pid="5" name="_EmailSubject">
    <vt:lpwstr/>
  </property>
</Properties>
</file>