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969-139F-41E1-9349-04330A7E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7AC-0452-4394-8A4C-FB7CDD08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D7E-2E9E-4AE9-8438-46EB4A53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D3C-FC41-42F4-91D9-0EB5F9AE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994-7C9D-43DA-9C20-CE05C520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069-E1B6-426D-ACCE-4A9DB8B7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1AD-7741-4DEA-A846-58E32A74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4D3-1461-4DF6-9E58-88399AA8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77F-3EC1-43C7-8756-369652C2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4F4-75C9-40FD-871E-F1892198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6C1-ABDC-44B1-8430-39B72E64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EA4-DCDF-477B-9FDC-2C322796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6D1A-5AF8-4909-A3D5-B372B01DF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Thomas Ed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lle Rob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Edis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born February 11 184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oved to port Huron Michigan, soon after he became an inven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nven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onograph in 187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91 he invented the electric light bul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motion ca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s!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3-1869 He worked as a telegraph operator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1 he married Mary Stilwell on the date of December 25.  A couple years later she died, after that he was remarr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in West Orange ,New Jersey, on October 18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warded the Congressional  Medal of Ho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0:06:51Z</dcterms:created>
  <dc:creator>Teresa Robinson</dc:creator>
  <dc:description/>
  <dc:language>en-US</dc:language>
  <cp:lastModifiedBy>Teresa Robinson</cp:lastModifiedBy>
  <dcterms:modified xsi:type="dcterms:W3CDTF">2009-05-14T01:37:05Z</dcterms:modified>
  <cp:revision>4</cp:revision>
  <dc:subject/>
  <dc:title>Thomas Edis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5094108</vt:r8>
  </property>
  <property fmtid="{D5CDD505-2E9C-101B-9397-08002B2CF9AE}" pid="3" name="_AuthorEmail">
    <vt:lpwstr>trobinson5972@cinci.rr.com</vt:lpwstr>
  </property>
  <property fmtid="{D5CDD505-2E9C-101B-9397-08002B2CF9AE}" pid="4" name="_AuthorEmailDisplayName">
    <vt:lpwstr>Teresa Robinson</vt:lpwstr>
  </property>
  <property fmtid="{D5CDD505-2E9C-101B-9397-08002B2CF9AE}" pid="5" name="_EmailSubject">
    <vt:lpwstr/>
  </property>
</Properties>
</file>