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110-CC0B-4987-A7EC-72F2D370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9CF-C44E-4F27-B38E-1C1DEA3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5A7-1DF9-43F3-BDA0-AB32C414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74D-B52B-4F3C-A2E9-BFAC5780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03E-1D6E-4998-B680-B652498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914-B179-4743-8CA4-FC7E564E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FDE-E81A-432E-BCD5-F59BF93A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A72-2BEA-417F-9E41-E169588B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125-CF22-4C43-8383-464BD91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377-6707-4F5A-ACDC-99313F45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A92-C6AD-4FCB-A3A5-1E9CCFA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334-4835-4D1E-8437-4011EC6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EC2-2551-43BB-855D-70198FE76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8" name="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FHSD</cp:lastModifiedBy>
  <dcterms:modified xsi:type="dcterms:W3CDTF">2009-02-17T03:43:02Z</dcterms:modified>
  <cp:revision>6</cp:revision>
  <dc:subject/>
  <dc:title>No Slide Title</dc:title>
</cp:coreProperties>
</file>