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F9F-F2F4-4711-A91B-B8AB8B4C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D6F-8F70-4037-B198-130C831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7E2-DC90-4A2B-97E7-54297CD2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95C-255F-40E7-AF84-3091A0B2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BE7-1710-48FF-8A09-C4BDFFE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FB4-F169-4AC5-8488-867D79E1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F9D-1F8D-4DE3-B037-5E7BA87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1C4-80A1-44A1-9BAC-39CD410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157-7DD2-4B41-AE62-9FF26E7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616-318B-4E1F-A8BE-60B0D49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41B-2180-4719-8E02-39837E1B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1A0-D451-4B9F-AE35-5578A6C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1F8D-D377-4A69-8111-D12619961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8" name="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FHSD</cp:lastModifiedBy>
  <dcterms:modified xsi:type="dcterms:W3CDTF">2009-02-17T03:43:02Z</dcterms:modified>
  <cp:revision>6</cp:revision>
  <dc:subject/>
  <dc:title>No Slide Title</dc:title>
</cp:coreProperties>
</file>