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9.wmf" ContentType="image/x-wmf"/>
  <Override PartName="/ppt/media/image17.wmf" ContentType="image/x-wmf"/>
  <Override PartName="/ppt/media/buzzer.wav" ContentType="audio/x-wav"/>
  <Override PartName="/ppt/media/image7.wmf" ContentType="image/x-wmf"/>
  <Override PartName="/ppt/media/image16.wmf" ContentType="image/x-wmf"/>
  <Override PartName="/ppt/media/ahhh.wav" ContentType="audio/x-wav"/>
  <Override PartName="/ppt/media/image15.wmf" ContentType="image/x-wmf"/>
  <Override PartName="/ppt/media/harp.wav" ContentType="audio/x-wav"/>
  <Override PartName="/ppt/media/image20.wmf" ContentType="image/x-wmf"/>
  <Override PartName="/ppt/media/image18.wmf" ContentType="image/x-wmf"/>
  <Override PartName="/ppt/media/wakeup.wav" ContentType="audio/x-wav"/>
  <Override PartName="/ppt/media/image5.png" ContentType="image/png"/>
  <Override PartName="/ppt/media/image13.wmf" ContentType="image/x-wmf"/>
  <Override PartName="/ppt/media/image21.wmf" ContentType="image/x-wmf"/>
  <Override PartName="/ppt/media/APPLAUSE.WAV" ContentType="audio/x-wav"/>
  <Override PartName="/ppt/media/image23.wmf" ContentType="image/x-wmf"/>
  <Override PartName="/ppt/media/image1.wmf" ContentType="image/x-wmf"/>
  <Override PartName="/ppt/media/image24.wmf" ContentType="image/x-wmf"/>
  <Override PartName="/ppt/media/whee.wav" ContentType="audio/x-wav"/>
  <Override PartName="/ppt/media/attaboy.wav" ContentType="audio/x-wav"/>
  <Override PartName="/ppt/media/image2.wmf" ContentType="image/x-wmf"/>
  <Override PartName="/ppt/media/image9.wmf" ContentType="image/x-wmf"/>
  <Override PartName="/ppt/media/image25.wmf" ContentType="image/x-wmf"/>
  <Override PartName="/ppt/media/yabba.wav" ContentType="audio/x-wav"/>
  <Override PartName="/ppt/media/image11.wmf" ContentType="image/x-wmf"/>
  <Override PartName="/ppt/media/image26.wmf" ContentType="image/x-wmf"/>
  <Override PartName="/ppt/media/image3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gethang.wav" ContentType="audio/x-wav"/>
  <Override PartName="/ppt/media/image22.wmf" ContentType="image/x-wmf"/>
  <Override PartName="/ppt/media/image6.wmf" ContentType="image/x-wmf"/>
  <Override PartName="/ppt/media/look_good.wav" ContentType="audio/x-wav"/>
  <Override PartName="/ppt/media/image8.wmf" ContentType="image/x-wmf"/>
  <Override PartName="/ppt/media/1ststep.wav" ContentType="audio/x-wav"/>
  <Override PartName="/ppt/media/image10.wmf" ContentType="image/x-wmf"/>
  <Override PartName="/ppt/media/image14.wmf" ContentType="image/x-wmf"/>
  <Override PartName="/ppt/media/excelnt.wav" ContentType="audio/x-wav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14F3-EE57-41E8-9590-725494939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AE4A-F902-4351-B7BA-7BB2B988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C9BF-3F36-4193-881B-2890F12CC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F222-A72F-4A35-80BC-4C54566F9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A8D9-726D-4210-A87C-16E4A392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0E9A-ABB8-4F69-B4F4-8A0D819E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BF4D-3F22-4F87-B074-668902F2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7460-D44D-43FD-ACE2-0522F654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1E1A-C266-41E5-9863-B28A48C4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2735-2E50-4A24-8BCE-D8604D58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977F-1254-4CE4-ABD3-B49E900C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96F4-3EB6-4408-B20C-055D2523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6DCF-C250-4836-AC49-1D03364C6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look_good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attaboy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audio" Target="../media/excelnt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buzzer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gethang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harp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audio" Target="../media/whee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ahhh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audio" Target="../media/yabba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wakeup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1ststep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95280" y="1752480"/>
            <a:ext cx="7086600" cy="196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or Opinion?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506680" cy="2271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726360" y="4952880"/>
            <a:ext cx="1919520" cy="1700280"/>
            <a:chOff x="3726360" y="4952880"/>
            <a:chExt cx="1919520" cy="1700280"/>
          </a:xfrm>
        </p:grpSpPr>
        <p:grpSp>
          <p:nvGrpSpPr>
            <p:cNvPr id="45" name=""/>
            <p:cNvGrpSpPr/>
            <p:nvPr/>
          </p:nvGrpSpPr>
          <p:grpSpPr>
            <a:xfrm>
              <a:off x="4038480" y="4952880"/>
              <a:ext cx="1371600" cy="228600"/>
              <a:chOff x="4038480" y="4952880"/>
              <a:chExt cx="1371600" cy="228600"/>
            </a:xfrm>
          </p:grpSpPr>
          <p:sp>
            <p:nvSpPr>
              <p:cNvPr id="46" name=""/>
              <p:cNvSpPr/>
              <p:nvPr/>
            </p:nvSpPr>
            <p:spPr>
              <a:xfrm>
                <a:off x="4038480" y="4952880"/>
                <a:ext cx="15264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257800" y="4952880"/>
                <a:ext cx="15228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 rot="16287000">
              <a:off x="4381200" y="5371920"/>
              <a:ext cx="609480" cy="1904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ook_goo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6000" y="533520"/>
            <a:ext cx="857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n opinion.  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lls what 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29494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/>
          <p:nvPr/>
        </p:nvSpPr>
        <p:spPr>
          <a:xfrm>
            <a:off x="764280" y="609480"/>
            <a:ext cx="816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ple, oak, and pine are types of tre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76720" y="2057400"/>
            <a:ext cx="255276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23280" y="685800"/>
            <a:ext cx="67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724280" y="4800600"/>
            <a:ext cx="1271880" cy="1386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5029200" cy="5000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791320" y="1905120"/>
            <a:ext cx="3047760" cy="2590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OH…NUT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6858000" y="502920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9" h="21600">
                <a:moveTo>
                  <a:pt x="5953" y="3794"/>
                </a:moveTo>
                <a:lnTo>
                  <a:pt x="19966" y="10800"/>
                </a:lnTo>
                <a:lnTo>
                  <a:pt x="595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1840" y="685800"/>
            <a:ext cx="69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24280" y="4800600"/>
            <a:ext cx="1271880" cy="1386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5029200" cy="5000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791320" y="1905120"/>
            <a:ext cx="3047760" cy="2590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ou’re do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REA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/>
          <p:nvPr/>
        </p:nvSpPr>
        <p:spPr>
          <a:xfrm>
            <a:off x="762840" y="609480"/>
            <a:ext cx="80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emperature outside is 20 degre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00400" y="1868400"/>
            <a:ext cx="34290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4640" y="609480"/>
            <a:ext cx="69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2851200" cy="3124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733920" y="1600200"/>
            <a:ext cx="5257800" cy="2438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tch Out!  You’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tting ho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5867280" y="4876920"/>
            <a:ext cx="1676520" cy="1143000"/>
          </a:xfrm>
          <a:custGeom>
            <a:avLst/>
            <a:gdLst>
              <a:gd name="textAreaLeft" fmla="*/ 73800 w 1676520"/>
              <a:gd name="textAreaRight" fmla="*/ 1602720 w 16765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1679" h="21600">
                <a:moveTo>
                  <a:pt x="0" y="0"/>
                </a:moveTo>
                <a:lnTo>
                  <a:pt x="31679" y="0"/>
                </a:lnTo>
                <a:lnTo>
                  <a:pt x="31679" y="21600"/>
                </a:lnTo>
                <a:lnTo>
                  <a:pt x="0" y="21600"/>
                </a:lnTo>
                <a:close/>
              </a:path>
              <a:path fill="lightenLess" w="31679" h="21600">
                <a:moveTo>
                  <a:pt x="0" y="0"/>
                </a:moveTo>
                <a:lnTo>
                  <a:pt x="31679" y="0"/>
                </a:lnTo>
                <a:lnTo>
                  <a:pt x="30279" y="1400"/>
                </a:lnTo>
                <a:lnTo>
                  <a:pt x="1400" y="1400"/>
                </a:lnTo>
                <a:close/>
              </a:path>
              <a:path fill="darken" w="31679" h="21600">
                <a:moveTo>
                  <a:pt x="31679" y="0"/>
                </a:moveTo>
                <a:lnTo>
                  <a:pt x="31679" y="21600"/>
                </a:lnTo>
                <a:lnTo>
                  <a:pt x="30279" y="20200"/>
                </a:lnTo>
                <a:lnTo>
                  <a:pt x="30279" y="1400"/>
                </a:lnTo>
                <a:close/>
              </a:path>
              <a:path fill="darkenLess" w="31679" h="21600">
                <a:moveTo>
                  <a:pt x="31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279" y="20200"/>
                </a:lnTo>
                <a:close/>
              </a:path>
              <a:path fill="lighten" w="31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679" h="21600">
                <a:moveTo>
                  <a:pt x="8833" y="3794"/>
                </a:moveTo>
                <a:lnTo>
                  <a:pt x="22846" y="10800"/>
                </a:lnTo>
                <a:lnTo>
                  <a:pt x="8833" y="17806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6080" y="609480"/>
            <a:ext cx="67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OPS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2851200" cy="3124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733920" y="1600200"/>
            <a:ext cx="5257800" cy="2438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tch Out!  You’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tting cold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"/>
          <p:cNvSpPr/>
          <p:nvPr/>
        </p:nvSpPr>
        <p:spPr>
          <a:xfrm>
            <a:off x="762480" y="609480"/>
            <a:ext cx="807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uters are the best invention eve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200400" y="1828800"/>
            <a:ext cx="263520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3920" y="609480"/>
            <a:ext cx="766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n opin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t I’d have to agree with i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4081680" cy="336528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7391520" y="5562720"/>
            <a:ext cx="1295280" cy="990360"/>
          </a:xfrm>
          <a:custGeom>
            <a:avLst/>
            <a:gdLst>
              <a:gd name="textAreaLeft" fmla="*/ 64080 w 1295280"/>
              <a:gd name="textAreaRight" fmla="*/ 1231200 w 12952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8248" h="21600">
                <a:moveTo>
                  <a:pt x="0" y="0"/>
                </a:moveTo>
                <a:lnTo>
                  <a:pt x="28248" y="0"/>
                </a:lnTo>
                <a:lnTo>
                  <a:pt x="28248" y="21600"/>
                </a:lnTo>
                <a:lnTo>
                  <a:pt x="0" y="21600"/>
                </a:lnTo>
                <a:close/>
              </a:path>
              <a:path fill="lightenLess" w="28248" h="21600">
                <a:moveTo>
                  <a:pt x="0" y="0"/>
                </a:moveTo>
                <a:lnTo>
                  <a:pt x="28248" y="0"/>
                </a:lnTo>
                <a:lnTo>
                  <a:pt x="26848" y="1400"/>
                </a:lnTo>
                <a:lnTo>
                  <a:pt x="1400" y="1400"/>
                </a:lnTo>
                <a:close/>
              </a:path>
              <a:path fill="darken" w="28248" h="21600">
                <a:moveTo>
                  <a:pt x="28248" y="0"/>
                </a:moveTo>
                <a:lnTo>
                  <a:pt x="28248" y="21600"/>
                </a:lnTo>
                <a:lnTo>
                  <a:pt x="26848" y="20200"/>
                </a:lnTo>
                <a:lnTo>
                  <a:pt x="26848" y="1400"/>
                </a:lnTo>
                <a:close/>
              </a:path>
              <a:path fill="darkenLess" w="28248" h="21600">
                <a:moveTo>
                  <a:pt x="28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48" y="20200"/>
                </a:lnTo>
                <a:close/>
              </a:path>
              <a:path fill="lighten" w="28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48" h="21600">
                <a:moveTo>
                  <a:pt x="7118" y="3794"/>
                </a:moveTo>
                <a:lnTo>
                  <a:pt x="21130" y="10800"/>
                </a:lnTo>
                <a:lnTo>
                  <a:pt x="7118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609480"/>
            <a:ext cx="827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pinion …and I’d have to agree with i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4081680" cy="33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01640" y="304920"/>
            <a:ext cx="5726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fact is a true statemen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 facts never change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t some facts can cha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27160" y="2435400"/>
            <a:ext cx="509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fact that does chang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5320" y="3505320"/>
            <a:ext cx="6619680" cy="860400"/>
            <a:chOff x="535320" y="3505320"/>
            <a:chExt cx="6619680" cy="86040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5029200" y="3505320"/>
              <a:ext cx="212580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35320" y="3581280"/>
              <a:ext cx="430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ennessee is a state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457200" y="2438280"/>
            <a:ext cx="8229600" cy="266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fact that can chang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77600" y="4724280"/>
            <a:ext cx="5164200" cy="1203480"/>
            <a:chOff x="1677600" y="4724280"/>
            <a:chExt cx="5164200" cy="1203480"/>
          </a:xfrm>
        </p:grpSpPr>
        <p:sp>
          <p:nvSpPr>
            <p:cNvPr id="58" name=""/>
            <p:cNvSpPr/>
            <p:nvPr/>
          </p:nvSpPr>
          <p:spPr>
            <a:xfrm>
              <a:off x="1677600" y="4952880"/>
              <a:ext cx="3513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his food is hot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5715000" y="4724280"/>
              <a:ext cx="1126800" cy="1203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"/>
          <p:cNvSpPr/>
          <p:nvPr/>
        </p:nvSpPr>
        <p:spPr>
          <a:xfrm>
            <a:off x="762480" y="609480"/>
            <a:ext cx="66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 think I look terrible in ora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15732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4280" y="609480"/>
            <a:ext cx="778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n opin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tells what 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76520" y="3757680"/>
            <a:ext cx="3325680" cy="3100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495680" y="1905120"/>
            <a:ext cx="4496040" cy="2361960"/>
          </a:xfrm>
          <a:prstGeom prst="cloudCallout">
            <a:avLst>
              <a:gd name="adj1" fmla="val -53212"/>
              <a:gd name="adj2" fmla="val 526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08280" y="2286000"/>
            <a:ext cx="286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think you l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arvelous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r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4800600"/>
            <a:ext cx="1676520" cy="1371600"/>
          </a:xfrm>
          <a:custGeom>
            <a:avLst/>
            <a:gdLst>
              <a:gd name="textAreaLeft" fmla="*/ 88920 w 1676520"/>
              <a:gd name="textAreaRight" fmla="*/ 1587600 w 167652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6401" h="21600">
                <a:moveTo>
                  <a:pt x="0" y="0"/>
                </a:moveTo>
                <a:lnTo>
                  <a:pt x="26401" y="0"/>
                </a:lnTo>
                <a:lnTo>
                  <a:pt x="26401" y="21600"/>
                </a:lnTo>
                <a:lnTo>
                  <a:pt x="0" y="21600"/>
                </a:lnTo>
                <a:close/>
              </a:path>
              <a:path fill="lightenLess" w="26401" h="21600">
                <a:moveTo>
                  <a:pt x="0" y="0"/>
                </a:moveTo>
                <a:lnTo>
                  <a:pt x="26401" y="0"/>
                </a:lnTo>
                <a:lnTo>
                  <a:pt x="25001" y="1400"/>
                </a:lnTo>
                <a:lnTo>
                  <a:pt x="1400" y="1400"/>
                </a:lnTo>
                <a:close/>
              </a:path>
              <a:path fill="darken" w="26401" h="21600">
                <a:moveTo>
                  <a:pt x="26401" y="0"/>
                </a:moveTo>
                <a:lnTo>
                  <a:pt x="26401" y="21600"/>
                </a:lnTo>
                <a:lnTo>
                  <a:pt x="25001" y="20200"/>
                </a:lnTo>
                <a:lnTo>
                  <a:pt x="25001" y="1400"/>
                </a:lnTo>
                <a:close/>
              </a:path>
              <a:path fill="darkenLess" w="26401" h="21600">
                <a:moveTo>
                  <a:pt x="264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1" y="20200"/>
                </a:lnTo>
                <a:close/>
              </a:path>
              <a:path fill="lighten" w="264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1" h="21600">
                <a:moveTo>
                  <a:pt x="6194" y="3794"/>
                </a:moveTo>
                <a:lnTo>
                  <a:pt x="20207" y="10800"/>
                </a:lnTo>
                <a:lnTo>
                  <a:pt x="6194" y="17806"/>
                </a:lnTo>
                <a:close/>
              </a:path>
            </a:pathLst>
          </a:cu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480" y="609480"/>
            <a:ext cx="8015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n opin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tells what 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676520" y="3757680"/>
            <a:ext cx="3325680" cy="3100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495680" y="1905120"/>
            <a:ext cx="4496040" cy="2361960"/>
          </a:xfrm>
          <a:prstGeom prst="cloudCallout">
            <a:avLst>
              <a:gd name="adj1" fmla="val -53212"/>
              <a:gd name="adj2" fmla="val 526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08280" y="2286000"/>
            <a:ext cx="286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think you l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arvelous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r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"/>
          <p:cNvSpPr/>
          <p:nvPr/>
        </p:nvSpPr>
        <p:spPr>
          <a:xfrm>
            <a:off x="763200" y="609480"/>
            <a:ext cx="687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ther is working in the gard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29210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6080" y="609480"/>
            <a:ext cx="67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505320" y="3276720"/>
            <a:ext cx="1654200" cy="27543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486400" y="1981080"/>
            <a:ext cx="2971800" cy="21337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et the ide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4876920"/>
            <a:ext cx="1447920" cy="121896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5656" h="21600">
                <a:moveTo>
                  <a:pt x="0" y="0"/>
                </a:moveTo>
                <a:lnTo>
                  <a:pt x="25656" y="0"/>
                </a:lnTo>
                <a:lnTo>
                  <a:pt x="25656" y="21600"/>
                </a:lnTo>
                <a:lnTo>
                  <a:pt x="0" y="21600"/>
                </a:lnTo>
                <a:close/>
              </a:path>
              <a:path fill="lightenLess" w="25656" h="21600">
                <a:moveTo>
                  <a:pt x="0" y="0"/>
                </a:moveTo>
                <a:lnTo>
                  <a:pt x="25656" y="0"/>
                </a:lnTo>
                <a:lnTo>
                  <a:pt x="24256" y="1400"/>
                </a:lnTo>
                <a:lnTo>
                  <a:pt x="1400" y="1400"/>
                </a:lnTo>
                <a:close/>
              </a:path>
              <a:path fill="darken" w="25656" h="21600">
                <a:moveTo>
                  <a:pt x="25656" y="0"/>
                </a:moveTo>
                <a:lnTo>
                  <a:pt x="25656" y="21600"/>
                </a:lnTo>
                <a:lnTo>
                  <a:pt x="24256" y="20200"/>
                </a:lnTo>
                <a:lnTo>
                  <a:pt x="24256" y="1400"/>
                </a:lnTo>
                <a:close/>
              </a:path>
              <a:path fill="darkenLess" w="25656" h="21600">
                <a:moveTo>
                  <a:pt x="256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56" y="20200"/>
                </a:lnTo>
                <a:close/>
              </a:path>
              <a:path fill="lighten" w="256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56" h="21600">
                <a:moveTo>
                  <a:pt x="5822" y="3794"/>
                </a:moveTo>
                <a:lnTo>
                  <a:pt x="19834" y="10800"/>
                </a:lnTo>
                <a:lnTo>
                  <a:pt x="5822" y="17806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4640" y="609480"/>
            <a:ext cx="69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505320" y="3276720"/>
            <a:ext cx="1654200" cy="2754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486400" y="1981080"/>
            <a:ext cx="2971800" cy="21337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ow you’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et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he idea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9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4600" y="533520"/>
            <a:ext cx="61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izza is the best tasting fo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476800" cy="2762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781680" y="4572000"/>
            <a:ext cx="19814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9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65560" y="685800"/>
            <a:ext cx="5371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opinion.  It tells w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572000" y="4267080"/>
            <a:ext cx="2743200" cy="18288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 rot="31800">
            <a:off x="991800" y="2587320"/>
            <a:ext cx="2890800" cy="2487600"/>
          </a:xfrm>
          <a:prstGeom prst="wedgeRoundRectCallout">
            <a:avLst>
              <a:gd name="adj1" fmla="val 73662"/>
              <a:gd name="adj2" fmla="val 46120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 thin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urgers a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43800" y="556272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2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2" y="20200"/>
                </a:lnTo>
                <a:lnTo>
                  <a:pt x="26372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2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2" h="21600">
                <a:moveTo>
                  <a:pt x="6880" y="3794"/>
                </a:moveTo>
                <a:lnTo>
                  <a:pt x="20893" y="10800"/>
                </a:lnTo>
                <a:lnTo>
                  <a:pt x="6880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9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64120" y="685800"/>
            <a:ext cx="5600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opinion.  It tells w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0" y="4267080"/>
            <a:ext cx="2743200" cy="1828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 rot="31800">
            <a:off x="991800" y="2587320"/>
            <a:ext cx="2890800" cy="2487600"/>
          </a:xfrm>
          <a:prstGeom prst="wedgeRoundRectCallout">
            <a:avLst>
              <a:gd name="adj1" fmla="val 73662"/>
              <a:gd name="adj2" fmla="val 46120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 thin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urgers a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466740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"/>
          <p:cNvSpPr/>
          <p:nvPr/>
        </p:nvSpPr>
        <p:spPr>
          <a:xfrm>
            <a:off x="1144080" y="685800"/>
            <a:ext cx="70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ccer and tennis are both spor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809880" y="1752480"/>
            <a:ext cx="3665520" cy="31021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828800" y="1905120"/>
            <a:ext cx="1965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5640" y="685800"/>
            <a:ext cx="6393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opinion is a statement t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lls what someone think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pinions can also can cha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895480" y="2895480"/>
            <a:ext cx="2976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hh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46960" y="685800"/>
            <a:ext cx="67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OPS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419720" y="2819520"/>
            <a:ext cx="3028680" cy="3276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447920" y="1981080"/>
            <a:ext cx="2395440" cy="28195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238880" y="548640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17" h="21600">
                <a:moveTo>
                  <a:pt x="7652" y="3794"/>
                </a:moveTo>
                <a:lnTo>
                  <a:pt x="21665" y="10800"/>
                </a:lnTo>
                <a:lnTo>
                  <a:pt x="765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45520" y="685800"/>
            <a:ext cx="69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419720" y="2819520"/>
            <a:ext cx="3028680" cy="3276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447920" y="1981080"/>
            <a:ext cx="239544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43000" y="685800"/>
            <a:ext cx="714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id you do?  If you ne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re help, click the button below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d try aga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3429000" y="3809880"/>
            <a:ext cx="3124080" cy="1981440"/>
          </a:xfrm>
          <a:custGeom>
            <a:avLst/>
            <a:gdLst>
              <a:gd name="textAreaLeft" fmla="*/ 128160 w 3124080"/>
              <a:gd name="textAreaRight" fmla="*/ 2995920 w 3124080"/>
              <a:gd name="textAreaTop" fmla="*/ 128160 h 1981440"/>
              <a:gd name="textAreaBottom" fmla="*/ 1853280 h 1981440"/>
            </a:gdLst>
            <a:ahLst/>
            <a:rect l="textAreaLeft" t="textAreaTop" r="textAreaRight" b="textAreaBottom"/>
            <a:pathLst>
              <a:path w="34054" h="21600">
                <a:moveTo>
                  <a:pt x="0" y="0"/>
                </a:moveTo>
                <a:lnTo>
                  <a:pt x="34054" y="0"/>
                </a:lnTo>
                <a:lnTo>
                  <a:pt x="34054" y="21600"/>
                </a:lnTo>
                <a:lnTo>
                  <a:pt x="0" y="21600"/>
                </a:lnTo>
                <a:close/>
              </a:path>
              <a:path fill="lightenLess" w="34054" h="21600">
                <a:moveTo>
                  <a:pt x="0" y="0"/>
                </a:moveTo>
                <a:lnTo>
                  <a:pt x="34054" y="0"/>
                </a:lnTo>
                <a:lnTo>
                  <a:pt x="32654" y="1400"/>
                </a:lnTo>
                <a:lnTo>
                  <a:pt x="1400" y="1400"/>
                </a:lnTo>
                <a:close/>
              </a:path>
              <a:path fill="darken" w="34054" h="21600">
                <a:moveTo>
                  <a:pt x="34054" y="0"/>
                </a:moveTo>
                <a:lnTo>
                  <a:pt x="34054" y="21600"/>
                </a:lnTo>
                <a:lnTo>
                  <a:pt x="32654" y="20200"/>
                </a:lnTo>
                <a:lnTo>
                  <a:pt x="32654" y="1400"/>
                </a:lnTo>
                <a:close/>
              </a:path>
              <a:path fill="darkenLess" w="34054" h="21600">
                <a:moveTo>
                  <a:pt x="34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54" y="20200"/>
                </a:lnTo>
                <a:close/>
              </a:path>
              <a:path fill="lighten" w="34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54" h="21600">
                <a:moveTo>
                  <a:pt x="10020" y="10800"/>
                </a:moveTo>
                <a:lnTo>
                  <a:pt x="24033" y="3794"/>
                </a:lnTo>
                <a:lnTo>
                  <a:pt x="24033" y="17806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6840" y="609480"/>
            <a:ext cx="8230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n you tell if the following stat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e facts or opin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90920" y="2895480"/>
            <a:ext cx="2133360" cy="3238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334120" y="1752480"/>
            <a:ext cx="3352680" cy="21337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t’s practi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ake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/>
          <p:nvPr/>
        </p:nvSpPr>
        <p:spPr>
          <a:xfrm>
            <a:off x="153000" y="533520"/>
            <a:ext cx="87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ery year except leap year has 365 day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27400" y="2038320"/>
            <a:ext cx="26892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02720" y="609480"/>
            <a:ext cx="65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276720" y="2362320"/>
            <a:ext cx="2436840" cy="2895480"/>
          </a:xfrm>
          <a:prstGeom prst="rect">
            <a:avLst/>
          </a:prstGeom>
          <a:ln w="0">
            <a:noFill/>
          </a:ln>
        </p:spPr>
      </p:pic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4038480" y="5562720"/>
            <a:ext cx="1524240" cy="990360"/>
          </a:xfrm>
          <a:custGeom>
            <a:avLst/>
            <a:gdLst>
              <a:gd name="textAreaLeft" fmla="*/ 64080 w 1524240"/>
              <a:gd name="textAreaRight" fmla="*/ 1460160 w 15242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40" h="21600">
                <a:moveTo>
                  <a:pt x="0" y="0"/>
                </a:moveTo>
                <a:lnTo>
                  <a:pt x="33240" y="0"/>
                </a:lnTo>
                <a:lnTo>
                  <a:pt x="33240" y="21600"/>
                </a:lnTo>
                <a:lnTo>
                  <a:pt x="0" y="21600"/>
                </a:lnTo>
                <a:close/>
              </a:path>
              <a:path fill="lightenLess" w="33240" h="21600">
                <a:moveTo>
                  <a:pt x="0" y="0"/>
                </a:moveTo>
                <a:lnTo>
                  <a:pt x="33240" y="0"/>
                </a:lnTo>
                <a:lnTo>
                  <a:pt x="31840" y="1400"/>
                </a:lnTo>
                <a:lnTo>
                  <a:pt x="1400" y="1400"/>
                </a:lnTo>
                <a:close/>
              </a:path>
              <a:path fill="darken" w="33240" h="21600">
                <a:moveTo>
                  <a:pt x="33240" y="0"/>
                </a:moveTo>
                <a:lnTo>
                  <a:pt x="33240" y="21600"/>
                </a:lnTo>
                <a:lnTo>
                  <a:pt x="31840" y="20200"/>
                </a:lnTo>
                <a:lnTo>
                  <a:pt x="31840" y="1400"/>
                </a:lnTo>
                <a:close/>
              </a:path>
              <a:path fill="darkenLess" w="33240" h="21600">
                <a:moveTo>
                  <a:pt x="332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40" y="20200"/>
                </a:lnTo>
                <a:close/>
              </a:path>
              <a:path fill="lighten" w="332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240" h="21600">
                <a:moveTo>
                  <a:pt x="9613" y="3794"/>
                </a:moveTo>
                <a:lnTo>
                  <a:pt x="23626" y="10800"/>
                </a:lnTo>
                <a:lnTo>
                  <a:pt x="961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9200" y="609480"/>
            <a:ext cx="69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287880" y="2590920"/>
            <a:ext cx="2274840" cy="226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"/>
          <p:cNvSpPr/>
          <p:nvPr/>
        </p:nvSpPr>
        <p:spPr>
          <a:xfrm>
            <a:off x="763200" y="609480"/>
            <a:ext cx="786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ench fries taste better with ketchu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733920" y="2209680"/>
            <a:ext cx="17143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6040" y="609480"/>
            <a:ext cx="835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n opinion.  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lls what 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505320" y="2057400"/>
            <a:ext cx="2025360" cy="292104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rId2" action="ppaction://hlinksldjump"/>
          </p:cNvPr>
          <p:cNvSpPr/>
          <p:nvPr/>
        </p:nvSpPr>
        <p:spPr>
          <a:xfrm>
            <a:off x="3809880" y="533412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3794"/>
                </a:moveTo>
                <a:lnTo>
                  <a:pt x="24284" y="10800"/>
                </a:lnTo>
                <a:lnTo>
                  <a:pt x="10271" y="17806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8T18:37:03Z</dcterms:created>
  <dc:creator>T.R. Systems</dc:creator>
  <dc:description/>
  <dc:language>en-US</dc:language>
  <cp:lastModifiedBy>FHSD</cp:lastModifiedBy>
  <dcterms:modified xsi:type="dcterms:W3CDTF">2009-02-17T03:43:02Z</dcterms:modified>
  <cp:revision>6</cp:revision>
  <dc:subject/>
  <dc:title>No Slide Title</dc:title>
</cp:coreProperties>
</file>