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C7CB-2E9D-4D08-8A9F-5E2EDDE25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5543-6849-43B6-B244-364EBBC7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2843-1CF0-43D8-862F-81266B290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4F08-5327-4415-BCB1-95B83E445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E789-9D90-4CA0-9A2C-CE8A8EFF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7D47-AF13-4735-B528-0A067050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5BC0-B392-4F06-BDAC-78652D55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269E-5645-4147-AF7E-2D5AF8E7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606C-4242-479A-85F9-AC3FB34E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A0AB-4649-49E8-A45B-A38F2944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C113-E4E0-4F67-A3E9-DFCB4271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312A-CDA4-4538-81AB-B0273AD1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2A46-DC15-4792-B62B-11D61665A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8:13:04Z</dcterms:created>
  <dc:creator>FHSD</dc:creator>
  <dc:description/>
  <dc:language>en-US</dc:language>
  <cp:lastModifiedBy>FHSD</cp:lastModifiedBy>
  <dcterms:modified xsi:type="dcterms:W3CDTF">2009-02-12T18:13:37Z</dcterms:modified>
  <cp:revision>1</cp:revision>
  <dc:subject/>
  <dc:title>Slide 1</dc:title>
</cp:coreProperties>
</file>