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69E0-797F-46FE-BCEE-6FA3582AE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E06C-72C1-4F8E-A2D4-A81BA46D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C98F-7C5B-4F78-9F4B-0574A2E7E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DF75-1823-4EE0-87A5-D0CDF040A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45AA-F652-43C4-A173-E5883821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F408-33C3-474E-A59E-D44B3085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266C-01E0-46CF-8EEE-AD444695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BE10-2376-4BE2-B99D-39588BBE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318D-81B6-4AD8-917A-6B5664DD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556C-DE16-49D8-AC8B-A58E0BC6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0BE1-899A-4C53-AC7E-0097701F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DB2B-C059-4EEE-AFFF-6CD752E4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D618-EB9C-4D44-94E0-52D58D66A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8:13:04Z</dcterms:created>
  <dc:creator>FHSD</dc:creator>
  <dc:description/>
  <dc:language>en-US</dc:language>
  <cp:lastModifiedBy>FHSD</cp:lastModifiedBy>
  <dcterms:modified xsi:type="dcterms:W3CDTF">2009-02-12T18:13:37Z</dcterms:modified>
  <cp:revision>1</cp:revision>
  <dc:subject/>
  <dc:title>Slide 1</dc:title>
</cp:coreProperties>
</file>