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7E7-CAC8-4FC8-98A4-9B57F4E4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1D98-664F-480C-85F0-BAE4AA1D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C09-1BA0-4ABC-BA1D-13979ADA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625-3C96-43A2-8DEE-36A6E5AF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968-20FB-42A8-9BE3-42C51DA6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A0D-0097-4128-9280-3F8A1BF1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4F6-B2E4-43E7-BAAE-39D56E2A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78C8-F206-4790-ABDB-512B4326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CC9-E5D6-4F96-B52A-572B7550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AEA-79F2-404B-A452-135EB695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B45-82F4-47CB-9D17-7A31A370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AFF-CA50-4DAE-8401-06CF16D3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B8D1-3A56-4110-BC7A-0955C595C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13:04Z</dcterms:created>
  <dc:creator>FHSD</dc:creator>
  <dc:description/>
  <dc:language>en-US</dc:language>
  <cp:lastModifiedBy>FHSD</cp:lastModifiedBy>
  <dcterms:modified xsi:type="dcterms:W3CDTF">2009-02-12T18:13:37Z</dcterms:modified>
  <cp:revision>1</cp:revision>
  <dc:subject/>
  <dc:title>Slide 1</dc:title>
</cp:coreProperties>
</file>