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6C6-1C39-468E-876A-56A9059A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E23-5865-4149-B1C3-632C7F4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9A6-5164-4A72-83B9-397AAC46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EBD-3927-4D8F-934A-02B43AD4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248-B6EA-4804-AF8C-7E0A26E9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01E-0C98-4CCB-846E-B37DD7D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1F2-5CC7-42CD-8670-8030E053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CF9-5439-4A79-AEEC-20CFAC9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D25-E767-4FD2-8167-4A3AE355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610-6A19-4996-AA25-EBD679B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48A-8A60-4D18-9B38-4481BDEB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D32-1EEC-48DE-BAAE-A246039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EDD-324B-475C-8F70-046AFD56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3:04Z</dcterms:created>
  <dc:creator>FHSD</dc:creator>
  <dc:description/>
  <dc:language>en-US</dc:language>
  <cp:lastModifiedBy>FHSD</cp:lastModifiedBy>
  <dcterms:modified xsi:type="dcterms:W3CDTF">2009-02-12T18:13:37Z</dcterms:modified>
  <cp:revision>1</cp:revision>
  <dc:subject/>
  <dc:title>Slide 1</dc:title>
</cp:coreProperties>
</file>