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3F4-9ECD-431C-95D8-7FF9FD17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082-D506-4004-8441-C67981D2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18A-40C7-467D-8590-E89DD03B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27D-A979-45AA-BC17-FE51DAFA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DD0-9FA9-46C4-B1C9-77275311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BA4-1442-4C25-8C27-1AF0885F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EB5-C99C-4AEC-8BB5-0D99411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522-E6E3-4363-8EE2-F3AF80F3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859-8C20-45EF-BB23-1DDEBB8F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9BC-B877-478C-8B7A-8E88AC8F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2B4-9B6A-4991-9811-5B6171D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73F-0B98-455C-A160-EE5D5F7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AE3-A759-4677-93D9-56D4BC69A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13:04Z</dcterms:created>
  <dc:creator>FHSD</dc:creator>
  <dc:description/>
  <dc:language>en-US</dc:language>
  <cp:lastModifiedBy>FHSD</cp:lastModifiedBy>
  <dcterms:modified xsi:type="dcterms:W3CDTF">2009-02-12T18:13:37Z</dcterms:modified>
  <cp:revision>1</cp:revision>
  <dc:subject/>
  <dc:title>Slide 1</dc:title>
</cp:coreProperties>
</file>