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D2B2-0FBB-4686-A8E8-19A9CD1B5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DD9-8B13-4EC9-8786-CEA07717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CA7-CD13-482E-9C8D-B8458301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3E4-9AE9-4AA1-ACCE-8E3F1210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3D3-76ED-4BDF-AEA2-047AD882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D53D-C77D-4D3D-8AD9-23E0103A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1E5B-2C6B-403C-A404-EB1F2E7F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CD1D-8299-4239-9ECC-9A5A9210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F17E-492C-4443-A35A-5538533A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AD66-E3DD-48F1-A6CB-E852A116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BFE8-6D11-44F7-861D-156BA7FD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313C-9B9A-4EAC-B1D6-FCF365B9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1E2-995B-43D3-A151-C9072B7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DDD8-61D9-4D90-877B-E409F02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8752-B0CB-4B81-B3DD-96A5BD6C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237D-6314-4D30-B988-71AE4ADE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6AA8-3369-499E-A5CA-E5632E0E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1D26-B09E-4EA3-8822-E046E067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812-2BC3-49EE-B59A-AC5530DC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5D0-B2D7-4E3F-9371-F65738BB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E33-1FE7-4988-8201-656BC4D0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036-A8F6-4EFA-83A3-032E22ED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513-3468-45E4-81B3-45934EDA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A87-0FC2-4B10-B516-9C55B30D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66E-5CAD-4715-8D81-C79DF406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C2FD-4AAE-46DB-9E24-619F4FCC2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D617-E962-4963-A49B-39F7013D9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tsnature.org/wp-content/uploads/2008/02/amazon-horned-frog.jpg&amp;imgrefurl=http://www.itsnature.org/ground/amphibians-land/amazon-horned-frog/&amp;usg=__yj_ZLwvmOn4C6HrsMbQU1cvaRBQ=&amp;h=505&amp;w=500&amp;sz=231&amp;hl=en&amp;start=2&amp;tbnid=RtcCWSbWTF0vBM:&amp;tbnh=130&amp;tbnw=129&amp;prev=/images%3Fq%3Dhorned%2Bfrog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erulea3_crop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ife of a fro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al reef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al reef frog lives near the coral r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fferent kinds of 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many kinds of frogs like the bull frog and the wood fro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od fro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od frog freezes it’s body in the w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943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ll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ull frog does funny sounds. It croaks a lot when it likes another bull fro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33360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rned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rned frog is big and looks we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048120"/>
            <a:ext cx="31244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re-Belly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e-belly frog is cool but it can do a lot of stu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5148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g is kind a like the frogs but cooler. The frog can look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White's Tree Frog (Litoria caerule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429000"/>
            <a:ext cx="44960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rt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rt frog is cool and it has spots. It can be many different col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171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ee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 frog lives on a tree or near a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2578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HSD</cp:lastModifiedBy>
  <dcterms:modified xsi:type="dcterms:W3CDTF">2009-02-18T02:34:0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