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A9B26-99D1-42C1-B610-D1CD873696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E9B1-FF14-4BD3-8352-3B9AB4199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F4EB-9FA5-4E3B-9447-00A68781A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6599-801F-4ABE-816A-47E199CD2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C982-2CE2-4717-B590-DA0BFA8E3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FB2CC-3FCA-481D-BE72-54E7AFFCE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943FE-08B7-4CF6-8557-763A9F643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5083B-3704-46BD-82D6-D8B922390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44456-EAA5-419E-930D-EC70F75A1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D000E-5951-424C-AB18-739062993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BF049-ABCD-4D63-BF16-97D39489B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AA418-892C-49AA-AB03-52BA6F6D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4A55-0144-402A-AB0C-DE2AC0BE8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F0105-FA71-4935-8478-A7C5A551B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754D6-BCF3-4E1C-8B9A-94C31A6F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54C3D-8606-40A7-83DA-1ACB2B57D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444ED-682F-4D18-88A7-47F46EEE0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DB92F-141A-4371-A752-4D5224943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F181-3EB3-41AB-BA74-4B1D3F774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AE85-C21E-46DA-9D8A-D7A326733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1289-097B-41C5-BC12-678FDE153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220C-E9A3-4EAF-BC46-77D7CF58A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93BA-7742-44B0-B6C5-A5039D50D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8714-300E-4DFC-A71E-7AC70E069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E280-3EB3-46DE-B723-ABBD2C30F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60F55-14DD-4FB0-85A8-F726B7C6BB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358E2-664A-48AA-BF0A-810E547617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itsnature.org/wp-content/uploads/2008/02/amazon-horned-frog.jpg&amp;imgrefurl=http://www.itsnature.org/ground/amphibians-land/amazon-horned-frog/&amp;usg=__yj_ZLwvmOn4C6HrsMbQU1cvaRBQ=&amp;h=505&amp;w=500&amp;sz=231&amp;hl=en&amp;start=2&amp;tbnid=RtcCWSbWTF0vBM:&amp;tbnh=130&amp;tbnw=129&amp;prev=/images%3Fq%3Dhorned%2Bfrog%26gbv%3D2%26hl%3Den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Caerulea3_crop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Life of a frog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905120" y="1600200"/>
            <a:ext cx="48006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al reef fro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oral reef frog lives near the coral ree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971800" y="3809880"/>
            <a:ext cx="274320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ifferent kinds of frog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many kinds of frogs like the bull frog and the wood fro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752480" y="2971800"/>
            <a:ext cx="480060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ood frog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od frog freezes it’s body in the win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666880" y="3581280"/>
            <a:ext cx="3943440" cy="287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ull fro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ull frog does funny sounds. It croaks a lot when it likes another bull frog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590920" y="3048120"/>
            <a:ext cx="3333600" cy="339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Horned fro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horned frog is big and looks weir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95480" y="3048120"/>
            <a:ext cx="312444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Fire-Belly fro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ire-belly frog is cool but it can do a lot of stuf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828800" y="3429000"/>
            <a:ext cx="5514840" cy="28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Fro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rog is kind a like the frogs but cooler. The frog can look many way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White's Tree Frog (Litoria caerulea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3429000"/>
            <a:ext cx="449604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art fro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art frog is cool and it has spots. It can be many different colo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819520" y="3124080"/>
            <a:ext cx="317160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ree fro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ee frog lives on a tree or near a tre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81080" y="2743200"/>
            <a:ext cx="5257800" cy="373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HSD</cp:lastModifiedBy>
  <dcterms:modified xsi:type="dcterms:W3CDTF">2009-02-18T02:34:09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