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A1B8-8971-4AA4-8C85-8E7F712A4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B1A-CFFF-4B92-B589-183F8F6D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70EA-FF91-4203-9639-905A504C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C8E-E8EF-4AAA-BCC3-54A79246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A30-5260-4355-AECB-D73A8629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1766-EB97-406B-8223-E615BF27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78BC-6622-41B9-8943-1A9FB1ED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ED2B-7D5E-488A-BA15-276F9642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716F-8985-4240-A508-12FAF175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3F5C-E5D9-473C-93D6-CAA65A63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4A0E-EEC9-4562-A8FC-13925D4B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6062-12F4-4A16-88CC-04E8132C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E11-FE0E-4E11-A755-C7212B7D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4286-FE89-4985-B6BE-E99AE980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DEF5-F97E-4146-9E82-EF1F0B52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7EA0-CD74-4E92-94F9-B6841E1C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0F2A-EE60-40E6-9D5A-0CD34A62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CD64-B01C-411D-AEBD-853E44CF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6C7-8491-4685-B32F-3D3130F7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3083-D8BF-44C2-B5A8-9C090C59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C50A-9DDE-492F-9511-36A4CD0D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8A8-66CF-4EBE-8319-7034F0CA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8DE-57DF-4005-9A85-9B7CE49E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0B8-8684-4382-AF99-AB787829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5D8-CC7F-4BF4-A2B7-947D7DD2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8D35-6A05-4E8E-9923-C8FD4CF3D3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0C21-8668-4CE2-897B-364EDB36F1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tsnature.org/wp-content/uploads/2008/02/amazon-horned-frog.jpg&amp;imgrefurl=http://www.itsnature.org/ground/amphibians-land/amazon-horned-frog/&amp;usg=__yj_ZLwvmOn4C6HrsMbQU1cvaRBQ=&amp;h=505&amp;w=500&amp;sz=231&amp;hl=en&amp;start=2&amp;tbnid=RtcCWSbWTF0vBM:&amp;tbnh=130&amp;tbnw=129&amp;prev=/images%3Fq%3Dhorned%2Bfrog%26gbv%3D2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aerulea3_crop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ife of a frog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al reef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ral reef frog lives near the coral ree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971800" y="380988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fferent kinds of fro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many kinds of frogs like the bull frog and the wood fro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48006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ood frog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od frog freezes it’s body in the wi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3943440" cy="28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ll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ull frog does funny sounds. It croaks a lot when it likes another bull fro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333360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rned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rned frog is big and looks wei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3048120"/>
            <a:ext cx="31244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ire-Belly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e-belly frog is cool but it can do a lot of stuf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551484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rog is kind a like the frogs but cooler. The frog can look many w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White's Tree Frog (Litoria caerulea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429000"/>
            <a:ext cx="44960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art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rt frog is cool and it has spots. It can be many different col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31716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ree fr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e frog lives on a tree or near a tr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2578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HSD</cp:lastModifiedBy>
  <dcterms:modified xsi:type="dcterms:W3CDTF">2009-02-18T02:34:0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