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0D01-003E-47F5-8273-00B36D221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290-036B-4436-B219-A1BFA747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4E6-DF3B-4C25-8291-51921B9C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707-045D-4D7A-ABC1-81A13F82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2D6-FC32-449C-9109-C21CF8C5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3EB9-5248-4D77-9FE8-62039EFD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44C4-ABD7-484A-9E85-7FEF1414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DE43-A75B-479E-BC06-26F3F188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F1A2-52AE-4622-B83E-45FEF170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AF02-2707-46B1-BA9C-E3CA45DF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C375-1719-4242-AC6B-7781B8A4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761B-3ADF-4396-A6B1-DF2E7C0E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8A2-E9C7-428C-9178-10697912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7D69-AE7F-4D4E-B08F-9B70831F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7A02-72D6-41A7-8353-5AFAE9A6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5897-AB4D-41BF-920C-8B2039D1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CCA6-8F4C-43E2-8BD7-464DA4CF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D1E2-D3C3-4CEA-8AAE-1D255497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17C-42B2-4F85-94D3-1082CE59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975-0416-4B2F-9CB1-75922EB0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AC8-BEB5-49C6-BCE8-0853CE72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92B-2CED-46FB-A6BA-411253AE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560-7804-410E-974C-9FCEB52A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3A8-BD5D-48C0-B47F-A08B6EAC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ED0-1F1B-490D-AF87-3D4682DF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61A4-1C80-428B-8C5F-262E9728D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0601-91B1-4E32-8CA3-6A18E2324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tsnature.org/wp-content/uploads/2008/02/amazon-horned-frog.jpg&amp;imgrefurl=http://www.itsnature.org/ground/amphibians-land/amazon-horned-frog/&amp;usg=__yj_ZLwvmOn4C6HrsMbQU1cvaRBQ=&amp;h=505&amp;w=500&amp;sz=231&amp;hl=en&amp;start=2&amp;tbnid=RtcCWSbWTF0vBM:&amp;tbnh=130&amp;tbnw=129&amp;prev=/images%3Fq%3Dhorned%2Bfrog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aerulea3_crop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ife of a fro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al reef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al reef frog lives near the coral re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fferent kinds of 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many kinds of frogs like the bull frog and the wood fro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48006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od fro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od frog freezes it’s body in the wi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943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ll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ull frog does funny sounds. It croaks a lot when it likes another bull fro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33360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rned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rned frog is big and looks we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048120"/>
            <a:ext cx="31244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re-Belly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e-belly frog is cool but it can do a lot of stu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5148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og is kind a like the frogs but cooler. The frog can look many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White's Tree Frog (Litoria caerule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429000"/>
            <a:ext cx="44960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art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rt frog is cool and it has spots. It can be many different col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171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ee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 frog lives on a tree or near a t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2578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HSD</cp:lastModifiedBy>
  <dcterms:modified xsi:type="dcterms:W3CDTF">2009-02-18T02:34:0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