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23C-CE32-4085-9B23-B3AAFEC8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729-46D0-4936-A436-D9B030C1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3BE2-109B-421D-9702-B0FA1CD7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E81-2A48-494C-9FC2-628E1E67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BDEF-C61E-42C9-813D-2AB2118D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66C7-8F63-4109-A8F9-60EA1DFB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D57-EFCF-4718-B48E-E2FB6518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D85A-2DF6-4E07-A177-FF6AEFA2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DAD7-B376-4D81-B665-5370C5F7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7AE-97D8-444B-9A39-AD542E44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3997-C239-436D-8AF4-8D578E9E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DCCB-536A-42B7-BBDC-9F013EB7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EC96-CF7B-4086-8A2D-DCE80CC98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Frogs , by  Kira Johns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3644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Frogs  can  be   all  sorts of  colors  and  live  at  different 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2687760" cy="2165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9880" y="0"/>
            <a:ext cx="28195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Frogs  like    to   sit   and    play    on  Lily-pads.  Lily-pads  sit   on   ponds,  wher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Frogs  like  to  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41148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Frogs  like   to   be  on  wet  lands  more  than  dry  la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90920" y="2095560"/>
            <a:ext cx="4219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Frogs  like  to  be in  ponds, lakes, rivers, and  ocea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43434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Frogs can  blend in to the leaves depending on what color frog they 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7531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6:15:13Z</dcterms:created>
  <dc:creator> </dc:creator>
  <dc:description/>
  <dc:language>en-US</dc:language>
  <cp:lastModifiedBy> </cp:lastModifiedBy>
  <dcterms:modified xsi:type="dcterms:W3CDTF">2009-05-27T16:12:56Z</dcterms:modified>
  <cp:revision>7</cp:revision>
  <dc:subject/>
  <dc:title>Frogs , by  Kira</dc:title>
</cp:coreProperties>
</file>