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2F8C-9D36-40B6-BD9B-FEEC3FDE5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85E2-6516-4466-8CDA-976AAD8A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B566-0C29-4CB7-979A-007A8953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6284-70CD-4541-9B5C-DA1480C1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E74F-BDE3-4818-B959-237B3F5B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1278-F1C7-4A5A-9898-41B9BF0F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56E5-601D-4E94-9132-65EB7278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66AF-552A-4477-AAA3-3BD3CC00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4808-2A20-4380-8EF5-4A8C3DA6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8453-4B2B-4330-9CE3-9D8B6F64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AD02-D4E5-4ACC-AED4-9341E806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DAD2-D85A-423D-A273-C1374596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5118-0A0C-413A-80B5-822F60479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Frogs , by  Kira Johns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36446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Frogs  can  be   all  sorts of  colors  and  live  at  different 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2687760" cy="2165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9880" y="0"/>
            <a:ext cx="281952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Frogs  like    to   sit   and    play    on  Lily-pads.  Lily-pads  sit   on   ponds,  where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Frogs  like  to   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09680" y="4114800"/>
            <a:ext cx="411480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Frogs  like   to   be  on  wet  lands  more  than  dry  lan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90920" y="2095560"/>
            <a:ext cx="42195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Frogs  like  to  be in  ponds, lakes, rivers, and  ocea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43434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Frogs can  blend in to the leaves depending on what color frog they a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7531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6:15:13Z</dcterms:created>
  <dc:creator> </dc:creator>
  <dc:description/>
  <dc:language>en-US</dc:language>
  <cp:lastModifiedBy> </cp:lastModifiedBy>
  <dcterms:modified xsi:type="dcterms:W3CDTF">2009-05-27T16:12:56Z</dcterms:modified>
  <cp:revision>7</cp:revision>
  <dc:subject/>
  <dc:title>Frogs , by  Kira</dc:title>
</cp:coreProperties>
</file>