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F78-E6B5-437E-91CF-48C32E67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DB9-BE2C-4B76-AF87-A584099E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CE0-8BE2-4FF7-A8CC-065D7BC2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564-95CE-486F-A57C-7F3CB24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AE6-B5B9-4D6A-986D-06478591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D96-4198-4227-925C-C998371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147-F2E3-4914-A333-63DC3261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0DC-06EB-4026-B70E-6683981D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B37-292C-46F4-ADE6-CBEA2472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A9A-2CA2-4080-8E97-FF7209B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B52-03CB-41F9-A8DD-560B057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C88-E4E7-435A-854E-2AE178C5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5D1-9FE8-46C2-9851-79822146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Frogs , by  Kira John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64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can  be   all  sorts of  colors  and  live  at  different 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687760" cy="216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28195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  to   sit   and    play    on  Lily-pads.  Lily-pads  sit   on   ponds,  wher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rogs  like  to  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4114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 to   be  on  wet  lands  more  than  dry  l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4219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 like  to  be in  ponds, lakes, rivers, and  oce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343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rogs can  blend in to the leaves depending on what color frog they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53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13Z</dcterms:created>
  <dc:creator> </dc:creator>
  <dc:description/>
  <dc:language>en-US</dc:language>
  <cp:lastModifiedBy> </cp:lastModifiedBy>
  <dcterms:modified xsi:type="dcterms:W3CDTF">2009-05-27T16:12:56Z</dcterms:modified>
  <cp:revision>7</cp:revision>
  <dc:subject/>
  <dc:title>Frogs , by  Kira</dc:title>
</cp:coreProperties>
</file>