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D44-E7F2-4C9D-9C1E-6A2D2163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C62-081A-4A4B-8D5A-0DB8515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DA4-379E-48DB-AF5E-EFF0EC9B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8E7-25C9-4810-9226-DF35C7E2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320-D266-491F-A58B-8E1808C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720-AE49-4B6B-8D62-F8E47405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007-512D-44EB-A469-200BD29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1A3-6421-45EC-8678-0ABAA16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7A0-2DA8-45C9-AF29-ADFA0EE9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0CD-F889-4516-95ED-FDD6786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EC1-6A22-4798-B304-3C55939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B61-8FC8-4D37-B4FD-169B1AB8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610-8BE4-4469-A28C-64A5D275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Frogs , by  Kira John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64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can  be   all  sorts of  colors  and  live  at  different 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687760" cy="216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8195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  to   sit   and    play    on  Lily-pads.  Lily-pads  sit   on   ponds,  wher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to  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 to   be  on  wet  lands  more  than  dry  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4219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to  be in  ponds, lakes, rivers, and  oce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43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can  blend in to the leaves depending on what color frog they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53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13Z</dcterms:created>
  <dc:creator> </dc:creator>
  <dc:description/>
  <dc:language>en-US</dc:language>
  <cp:lastModifiedBy> </cp:lastModifiedBy>
  <dcterms:modified xsi:type="dcterms:W3CDTF">2009-05-27T16:12:56Z</dcterms:modified>
  <cp:revision>7</cp:revision>
  <dc:subject/>
  <dc:title>Frogs , by  Kira</dc:title>
</cp:coreProperties>
</file>