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1FD-97AE-49BA-8C89-3A8DA37C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134-99D5-4015-8CD1-83E7013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0EA-0E6B-4C81-834C-F15AEB38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7AF-88D0-478E-B6AE-DF54F883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B04-CA37-4611-90D2-717A9F0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F10-C147-4149-818C-AD8345F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C82-E026-4D4E-BA06-0C6A70BE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53B-6DE9-49B2-9478-44473FB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647-583B-4722-8AAE-3F04CDC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BCE-CC38-4415-83C9-7C005E4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14B-8B3B-4C94-87D8-1F21B69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B8E-A159-4AEA-8DBD-153ADBD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EEF-EA68-4498-BED8-369A8AAFF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28:27Z</dcterms:created>
  <dc:creator>FHSD</dc:creator>
  <dc:description/>
  <dc:language>en-US</dc:language>
  <cp:lastModifiedBy>FHSD</cp:lastModifiedBy>
  <dcterms:modified xsi:type="dcterms:W3CDTF">2009-02-12T18:30:25Z</dcterms:modified>
  <cp:revision>1</cp:revision>
  <dc:subject/>
  <dc:title>Slide 1</dc:title>
</cp:coreProperties>
</file>