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E07-7ACF-4D1F-AE71-1E611F1F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3AC-34B0-4020-A0CA-CAE80500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2C4-F658-4056-BD8A-03E22BCD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644-D764-4BB4-B9C2-34CC1CC9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999-2FBF-42D9-BDB6-5BFF30F6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553-7794-43A3-9C86-80312419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269-B0C4-4CE2-9C93-9CFEF98F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FCB-5EF3-4A22-A570-A05C1809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797-77A2-44F0-8FC9-6E95621B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499-4962-4140-8372-62AFA066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9A0-2795-4648-861F-77167167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84D-4CB2-4AE1-B0C7-A43D1A5C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DF8D-5C13-4B07-A042-E84A483C0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28:27Z</dcterms:created>
  <dc:creator>FHSD</dc:creator>
  <dc:description/>
  <dc:language>en-US</dc:language>
  <cp:lastModifiedBy>FHSD</cp:lastModifiedBy>
  <dcterms:modified xsi:type="dcterms:W3CDTF">2009-02-12T18:30:25Z</dcterms:modified>
  <cp:revision>1</cp:revision>
  <dc:subject/>
  <dc:title>Slide 1</dc:title>
</cp:coreProperties>
</file>