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E547-ED19-46DD-8726-1AD296D0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2E52-B8B4-4920-B1F7-2F8CBE7E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7B8-97EB-4805-ABEE-D443B8C3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424-8277-41FC-A88E-400B04B4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99E-3FD3-48EA-A267-17FAFE92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A91-E595-4BFD-8868-81603565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BF7-62A7-498F-973A-DD72FB6E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D99-38FB-476F-8A99-59FCA8F8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09F-FB89-4F52-B9A2-504D05A7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93D-817D-4B6B-A21F-5D689D9B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200-2098-4EA1-A5F6-C979E32C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04E-71D8-415D-BFF3-456D20E9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C9EA-42DA-4572-9F94-15128B5B7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28:27Z</dcterms:created>
  <dc:creator>FHSD</dc:creator>
  <dc:description/>
  <dc:language>en-US</dc:language>
  <cp:lastModifiedBy>FHSD</cp:lastModifiedBy>
  <dcterms:modified xsi:type="dcterms:W3CDTF">2009-02-12T18:30:25Z</dcterms:modified>
  <cp:revision>1</cp:revision>
  <dc:subject/>
  <dc:title>Slide 1</dc:title>
</cp:coreProperties>
</file>