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626-C3DC-4228-AAD8-D3C677FC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E38-F4D8-404A-BCC7-D4B08E1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75A-0619-46A3-91E8-C5D28770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825-63CE-41E0-BDBA-3705A7B0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213-7490-430F-AC38-974FF06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6A5-8AE3-4C82-8848-E0692238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6C2-881F-4C5D-A73E-16DA49B7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AF3-A554-4EF6-8D13-F3E84BAC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C21-6101-43DA-AC7B-A48C41DA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09F-74CD-46B8-B772-26E2783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715-6107-4C9B-B347-E1D9EF1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7A5-9009-489D-BB4D-434FF59C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C673-6AD5-41A4-AE82-50C834C2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8:27Z</dcterms:created>
  <dc:creator>FHSD</dc:creator>
  <dc:description/>
  <dc:language>en-US</dc:language>
  <cp:lastModifiedBy>FHSD</cp:lastModifiedBy>
  <dcterms:modified xsi:type="dcterms:W3CDTF">2009-02-12T18:30:25Z</dcterms:modified>
  <cp:revision>1</cp:revision>
  <dc:subject/>
  <dc:title>Slide 1</dc:title>
</cp:coreProperties>
</file>