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DDB9-1172-478F-BD50-60F7BA52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3489-3964-49C6-84E1-CFE87CD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2713-1393-4DA2-8FE6-4C79463E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45BA-E54A-487B-9C8A-9ECFCD6D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6FFB-363E-49B6-B0F6-22FF6F48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0BED-D64C-4E3F-A56B-E35BE65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C40A-110F-4160-A79F-A7CF4E9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237E-C610-4C59-A382-F0CBCB41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2D11-0B27-4650-A4E3-CA1E30DE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1C8F-02B0-493D-BF00-9D38708B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97D-D3CF-4014-8998-6398EF3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0189-C54F-4241-A780-ABF1BF9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814D-6E41-4A90-8EBC-CBE0FAD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0EBB-84FF-4F66-A1DC-7770375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EC3D-3D80-4835-8A10-A24F4144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1943-9B44-4542-8E62-C58D76C3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C5D8-6B1E-479F-AB2B-B156CA1F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67A2-8021-4B88-8039-75ADE767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E81D-7569-43D6-A030-9F0955BA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9B0D-6C75-4972-AC9B-382EB4A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EAD1-0971-499C-9113-793B700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69EF-496C-4201-B9C2-A922B2F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EB14-857A-41C0-B225-E063773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0E2C-9DB2-4201-A2E8-C8CCC80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7279-DDF6-476B-83B0-F21ED9D2BD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FF9-4AF7-471E-8430-B250F0CC66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aveuse"/>
              </a:rPr>
              <a:t>Killer whal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Eleonore Blument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895480" cy="22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06404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oopee"/>
              </a:rPr>
              <a:t>What do Killer Whales eat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Killer Whales eat Penguins, Seals, Seal lions, and dolph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3341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Boopee"/>
              </a:rPr>
              <a:t>Where do Killer Whales live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veuse"/>
              </a:rPr>
              <a:t>Killer Whales live in every single ocean there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2673360"/>
            <a:ext cx="4876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aveuse"/>
              </a:rPr>
              <a:t>How do They liv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aveuse"/>
              </a:rPr>
              <a:t>Killer Whales are like people, but their getting endagerd every day. The only way to stop them from being endage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pee"/>
              </a:rPr>
              <a:t>Where are some places where orca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Another place where orcas live is SeaWorld in both Florida and Californ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This is a picture from Sea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96000" y="3251160"/>
            <a:ext cx="42480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14:23Z</dcterms:created>
  <dc:creator> </dc:creator>
  <dc:description/>
  <dc:language>en-US</dc:language>
  <cp:lastModifiedBy> </cp:lastModifiedBy>
  <dcterms:modified xsi:type="dcterms:W3CDTF">2009-05-28T16:28:47Z</dcterms:modified>
  <cp:revision>19</cp:revision>
  <dc:subject/>
  <dc:title>Killer whale</dc:title>
</cp:coreProperties>
</file>