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AA4DC-FC41-4140-A2EE-8797E91E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D3DA-153C-49E2-AA43-9A0F7341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104E-C69C-4297-AD1D-A0011CA6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B555-922E-46B1-B231-ECDC5CAB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3096-10E1-4596-8EE3-39FA125B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1849-6F01-4AA0-8C4E-E9DDCA81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4336-FD31-47B6-AEF3-52E8A227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4A95-A62E-4EB5-9D59-47DF0410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0110-B70B-4D80-A0EE-FA27F6EA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112-A2B8-4AA2-B701-316F32EB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E2F-AAF8-40A1-A143-2409A9D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2E1C-FB17-4B69-8AC4-BE3E527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AEE3-32F3-488F-9074-1E0A783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2CF0-98D1-443E-A2CD-86A6EFF1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FEB1-5A47-4D34-9830-8879D565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D4FD-48BF-4D5A-A3C7-C60C3619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6AF1-3F79-4A31-BCB7-4430A803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34A4-FEF6-498F-9B5A-6B2C6B9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1549-B403-4CF1-A12D-CF459AE4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0423-A0EC-40B7-9365-96C70DFB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9117-7822-4687-9DEC-DC7CAEE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4CAD-EFCD-4162-A86F-9078B771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1313-54D4-4747-87F5-8028A24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4845-BD9D-4AE5-9892-981712B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AF44-5C3E-4EEE-8E95-7C127384D3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1E0A-01C3-406E-8D7D-C460AB41A8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aveuse"/>
              </a:rPr>
              <a:t>Killer whal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Eleonore Blument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895480" cy="22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06404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oopee"/>
              </a:rPr>
              <a:t>What do Killer Whales eat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Killer Whales eat Penguins, Seals, Seal lions, and dolph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3341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Boopee"/>
              </a:rPr>
              <a:t>Where do Killer Whales live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veuse"/>
              </a:rPr>
              <a:t>Killer Whales live in every single ocean there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2673360"/>
            <a:ext cx="4876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aveuse"/>
              </a:rPr>
              <a:t>How do They liv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aveuse"/>
              </a:rPr>
              <a:t>Killer Whales are like people, but their getting endagerd every day. The only way to stop them from being endage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pee"/>
              </a:rPr>
              <a:t>Where are some places where orca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Another place where orcas live is SeaWorld in both Florida and Californ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This is a picture from Sea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96000" y="3251160"/>
            <a:ext cx="42480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14:23Z</dcterms:created>
  <dc:creator> </dc:creator>
  <dc:description/>
  <dc:language>en-US</dc:language>
  <cp:lastModifiedBy> </cp:lastModifiedBy>
  <dcterms:modified xsi:type="dcterms:W3CDTF">2009-05-28T16:28:47Z</dcterms:modified>
  <cp:revision>19</cp:revision>
  <dc:subject/>
  <dc:title>Killer whale</dc:title>
</cp:coreProperties>
</file>