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B1C1-CA1F-483C-891F-1A384193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6DEA-308F-47AE-9F1B-EDB59DB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0258-C805-4225-88C5-FB854964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1304-13A6-4FAF-A038-5FB12E96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FDE3-F328-472A-9DDC-EE973149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8ED-7D2F-4EF7-AF4A-94732EB5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7987-9E92-4BC3-91D4-87067D6E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510-3917-4D05-943A-71AA5F17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230-05F2-47B3-8C96-1B7C076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26B8-2A13-42FA-AC40-CC71367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FA59-249D-4059-87E9-7BC2154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ABF7-1F6D-4A0E-ACB6-1CEDAB80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400-C890-4F55-AC49-EFCF8EF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3713-5F28-4380-AADB-4F80021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F09-A81C-42C3-BC67-D0C358B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474A-CD69-49D2-A63C-7DA23ADC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5F75-6B03-4947-9685-EBFCB24A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436C-300C-482C-AC50-630A657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2BD7-61CB-4751-AB43-CA37BE7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E8C1-8D46-44E5-BC2B-A8D21BB9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3D0A-F0A9-46D2-9FF7-01AC8A9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0ED8-F5B9-47F8-85F0-DA6D3F9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79AE-F441-4700-B458-9A454B4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61FA-3FA5-4F4D-A146-D5D8223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03FC-B6CB-4148-A95D-44A43484EC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0C1D-0FBE-4FB0-B23E-FF4C283EC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aveuse"/>
              </a:rPr>
              <a:t>Killer whal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Eleonore Blument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895480" cy="22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6404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oopee"/>
              </a:rPr>
              <a:t>What do Killer Whales eat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Killer Whales eat Penguins, Seals, Seal lions, and dolph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34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pee"/>
              </a:rPr>
              <a:t>Where do Killer Whales live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veuse"/>
              </a:rPr>
              <a:t>Killer Whales live in every single ocean there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2673360"/>
            <a:ext cx="4876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aveuse"/>
              </a:rPr>
              <a:t>How do They l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aveuse"/>
              </a:rPr>
              <a:t>Killer Whales are like people, but their getting endagerd every day. The only way to stop them from being endage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pee"/>
              </a:rPr>
              <a:t>Where are some places where orca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Another place where orcas live is SeaWorld in both Florida and Californ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This is a picture from Sea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96000" y="3251160"/>
            <a:ext cx="4248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4:23Z</dcterms:created>
  <dc:creator> </dc:creator>
  <dc:description/>
  <dc:language>en-US</dc:language>
  <cp:lastModifiedBy> </cp:lastModifiedBy>
  <dcterms:modified xsi:type="dcterms:W3CDTF">2009-05-28T16:28:47Z</dcterms:modified>
  <cp:revision>19</cp:revision>
  <dc:subject/>
  <dc:title>Killer whale</dc:title>
</cp:coreProperties>
</file>