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9DB2-E15B-40CD-B880-0F292A16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C611-149B-4271-A5CE-0C05DE24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4FAA-8EB7-4377-AC0F-5AF5192D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B73F-CE67-4EBA-9C76-4D048501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657D-FBCD-4C0E-814F-B24B1671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6F31-7800-4EDA-AB74-BC387C64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4816-BB80-4D4B-B604-581F34D2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C90-DA10-4FEA-82BF-D964D9E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7F41-BEE9-4E87-BBEF-356C063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33B-ADB8-4CDB-A784-7AD909A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45B-C0AE-4E91-8BA0-34E288B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12A6-E63C-4BCD-A6D7-25709A0E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F827-0E0F-4DB7-85D3-60835F3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9B11-A7D3-464B-B48E-75CDE690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A1F-45C0-4669-A1F6-6A63A45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E0E4-E5FE-4EB1-A460-9C4D9BB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00E-45D8-4E84-9FF7-05EDCF80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BE4B-DB77-414D-8571-0F7BDC02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0848-F4A4-4C3B-AB79-38B8B2A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05F3-60FE-4283-A563-FFBD49C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6C4F-46E9-495A-B9E9-0A01965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8704-E2FC-4474-B94E-DFA1AD7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A914-46F3-4C2C-BDFE-A19CE70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E0D6-2EDC-4BC2-AB84-9DB1EA7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2D5-37ED-41E1-A685-7560617AA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C86-5517-4CAC-BE89-A54435FA5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aveuse"/>
              </a:rPr>
              <a:t>Killer whal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Eleonore Blument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895480" cy="221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06404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Boopee"/>
              </a:rPr>
              <a:t>What do Killer Whales eat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Killer Whales eat Penguins, Seals, Seal lions, and dolph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334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pee"/>
              </a:rPr>
              <a:t>Where do Killer Whales live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veuse"/>
              </a:rPr>
              <a:t>Killer Whales live in every single ocean there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2673360"/>
            <a:ext cx="4876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aveuse"/>
              </a:rPr>
              <a:t>How do They liv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aveuse"/>
              </a:rPr>
              <a:t>Killer Whales are like people, but their getting endagerd every day. The only way to stop them from being endage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pee"/>
              </a:rPr>
              <a:t>Where are some places where orca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Another place where orcas live is SeaWorld in both Florida and Californ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pee"/>
              </a:rPr>
              <a:t>This is a picture from Sea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96000" y="3251160"/>
            <a:ext cx="42480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4:23Z</dcterms:created>
  <dc:creator> </dc:creator>
  <dc:description/>
  <dc:language>en-US</dc:language>
  <cp:lastModifiedBy> </cp:lastModifiedBy>
  <dcterms:modified xsi:type="dcterms:W3CDTF">2009-05-28T16:28:47Z</dcterms:modified>
  <cp:revision>19</cp:revision>
  <dc:subject/>
  <dc:title>Killer whale</dc:title>
</cp:coreProperties>
</file>