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03A-EF6A-4B02-8520-3305C64D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6D1-35D0-4BD4-B5EE-96C15BFD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E26-E27A-43CC-94A1-F8FFAE5B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520-4054-4005-B927-979A0DC9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39E-63EB-4D75-BBD9-7DB63C8D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61A-5264-4AF4-A3B8-A349B10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18E-EC95-4B9B-812E-FC13DEF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298-28F7-4013-8D82-7099F1B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DE5-2AC8-451A-A41F-0D25EE7B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357-EBA4-48E0-96B4-B6FED5A4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813-F765-4D75-A280-2A8D49FD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652-8398-418D-BF77-E725510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2A43-0E79-4736-8E60-A649B63D2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7:40Z</dcterms:created>
  <dc:creator>FHSD</dc:creator>
  <dc:description/>
  <dc:language>en-US</dc:language>
  <cp:lastModifiedBy>FHSD</cp:lastModifiedBy>
  <dcterms:modified xsi:type="dcterms:W3CDTF">2009-02-12T18:19:05Z</dcterms:modified>
  <cp:revision>1</cp:revision>
  <dc:subject/>
  <dc:title>Slide 1</dc:title>
</cp:coreProperties>
</file>