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8BE-55A5-4404-928D-08178029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339-DD29-4147-8789-05652C9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2C5-0D29-4273-BFE3-8623BD1B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C9D-D2B2-401F-8227-E21E2BE4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0E5-43B6-4C5D-903A-5D176162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DFC-FA84-4CD1-9314-671E7C90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D91-3CEF-4FD4-9F2E-025A396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C6B-51AB-44A3-911C-967D72E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E3A-87F6-425F-A8F6-538AFA41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B87-6CC4-45E4-9E97-7F3682D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DCC-32D0-4AD5-A66B-640DCDB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B95-ADAF-48D2-9505-A947EDB6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D699-0356-42DA-80B9-3AF9C7D4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7:40Z</dcterms:created>
  <dc:creator>FHSD</dc:creator>
  <dc:description/>
  <dc:language>en-US</dc:language>
  <cp:lastModifiedBy>FHSD</cp:lastModifiedBy>
  <dcterms:modified xsi:type="dcterms:W3CDTF">2009-02-12T18:19:05Z</dcterms:modified>
  <cp:revision>1</cp:revision>
  <dc:subject/>
  <dc:title>Slide 1</dc:title>
</cp:coreProperties>
</file>