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DEE9-85F9-4913-B285-6A886E86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9FD-89D4-4875-A7F8-A2E49601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6ED2-C6A6-411C-BCD6-8EDAECB4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2E81-A299-4628-A31C-619636E6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7438-4EC0-4C7E-B58E-32FB87B9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A1A-E7C0-47F1-993F-477D9DBF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A0F0-55FB-402F-A3C8-7AD05692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E28-A24C-456A-8687-23637435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F608-B9C8-448A-870C-F00A416A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F1B6-62D2-424C-A20E-46C88564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513-4B29-4FD4-8C68-979D8DF3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1C14-E8E2-4332-BB53-80A5F1EE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2DCF-F461-460E-8DD7-BF914A5ED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17:40Z</dcterms:created>
  <dc:creator>FHSD</dc:creator>
  <dc:description/>
  <dc:language>en-US</dc:language>
  <cp:lastModifiedBy>FHSD</cp:lastModifiedBy>
  <dcterms:modified xsi:type="dcterms:W3CDTF">2009-02-12T18:19:05Z</dcterms:modified>
  <cp:revision>1</cp:revision>
  <dc:subject/>
  <dc:title>Slide 1</dc:title>
</cp:coreProperties>
</file>