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CD6-785C-443D-8822-80EB27D2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B4F-8EF7-437D-AC8B-323F16C3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6CB7-9921-4D37-966C-78AF3EE0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C85-8738-415B-81FF-868A3B62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ABBD-A24A-458B-AE64-E7EC498A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40A-7864-49D9-AA90-2D4D543A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1CB-9345-4AEE-98DB-F1E3F520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AF1B-B5F1-4563-998E-5DD773C6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C39-0BDE-4881-B05B-42316544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D8FD-42B3-49D6-8580-927E1319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9567-62C6-4B2F-BDF0-2CBF6152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AA53-1D1F-4298-9C84-72C841B1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4411-F47B-4551-B091-860879387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17:40Z</dcterms:created>
  <dc:creator>FHSD</dc:creator>
  <dc:description/>
  <dc:language>en-US</dc:language>
  <cp:lastModifiedBy>FHSD</cp:lastModifiedBy>
  <dcterms:modified xsi:type="dcterms:W3CDTF">2009-02-12T18:19:05Z</dcterms:modified>
  <cp:revision>1</cp:revision>
  <dc:subject/>
  <dc:title>Slide 1</dc:title>
</cp:coreProperties>
</file>