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F08-868C-466D-90E9-C3E666F1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3FF-F69B-4745-897A-B1D69335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2B2-D945-48EA-83CE-1010DC93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329-CBF6-4D89-A3FC-6C1026D4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84F-2445-4880-8865-4CC3C51B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EEB-B65D-4987-873B-B7D39896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53A-EE67-4DEA-A61C-955D2CED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CAC-EBF4-481C-9615-A81AEB92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0E2-8BCB-4B4D-962C-161D2071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92D-02F2-48E6-863C-C898C38A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8C6-A63D-445C-B08A-87DF53BC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12A-2A74-46C1-9B40-D8DCA88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9DB6-381E-4DD2-8065-ED00C9161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1:33Z</dcterms:created>
  <dc:creator>FHSD</dc:creator>
  <dc:description/>
  <dc:language>en-US</dc:language>
  <cp:lastModifiedBy>FHSD</cp:lastModifiedBy>
  <dcterms:modified xsi:type="dcterms:W3CDTF">2009-02-13T01:34:28Z</dcterms:modified>
  <cp:revision>1</cp:revision>
  <dc:subject/>
  <dc:title>Slide 1</dc:title>
</cp:coreProperties>
</file>