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070-49C9-4086-A56E-C77D2BAB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7F3-E06B-4AFC-8099-9D4F3E33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049-0FE8-46D7-86A1-26C0B9A3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CF9-475A-41F2-914B-89C2C735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C8C-CFB7-4CDD-AE6E-59B01D3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E82-2D4E-42C6-A699-D897841B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E43-F6EA-404B-961C-F4023ED6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DE3-6DB9-41FB-A89F-9EF83B49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FD6-C3ED-4FAA-85EF-81197C1E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51C-31EF-487B-A43C-E01A6C8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EBE-B979-472E-8F63-846DA0B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4A6-A211-407D-BDE6-79F6A38B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EFA4-6CD5-4DD2-A9B5-45F3E9E44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1:33Z</dcterms:created>
  <dc:creator>FHSD</dc:creator>
  <dc:description/>
  <dc:language>en-US</dc:language>
  <cp:lastModifiedBy>FHSD</cp:lastModifiedBy>
  <dcterms:modified xsi:type="dcterms:W3CDTF">2009-02-13T01:34:28Z</dcterms:modified>
  <cp:revision>1</cp:revision>
  <dc:subject/>
  <dc:title>Slide 1</dc:title>
</cp:coreProperties>
</file>