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7BE-F31F-45D5-AB72-28F762AF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986-6933-43A2-A858-88C48FEB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A24-AC59-49BB-A66A-178D9719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3B9-6476-4B3F-90F4-FBE3501C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460-B022-41AF-BAEB-93446F9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F22-7FBB-4E25-A108-5E955E4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461-D4E0-45DC-8E5F-8C87044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2A4-C429-4BBB-BE97-9EADC32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2C4-5276-4761-96BF-63F4C5E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5CA-8168-4F9E-86EA-CD2414A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DC8-FF6A-4458-981F-DAF93E0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E6C-8CE4-4D71-A84C-35F18BD8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B32-35B9-4AAA-8404-C6F50BEF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7:34Z</dcterms:created>
  <dc:creator>FHSD</dc:creator>
  <dc:description/>
  <dc:language>en-US</dc:language>
  <cp:lastModifiedBy>FHSD</cp:lastModifiedBy>
  <dcterms:modified xsi:type="dcterms:W3CDTF">2009-02-13T01:29:49Z</dcterms:modified>
  <cp:revision>1</cp:revision>
  <dc:subject/>
  <dc:title>Slide 1</dc:title>
</cp:coreProperties>
</file>