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0422-96D3-440C-85E9-BBF3ED940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4912-4100-4275-B5ED-CB1D195EF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654C-31B2-45D9-9B75-65A4D7B54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468E-1C52-4B18-A9F7-5F207E63F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16FC-829C-4C0F-805D-13547E985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0CC8-9BA0-4C17-AE05-D7B3C84BD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DEDF-8330-49D1-80C5-754B0A2F9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B725-68BD-44ED-BCF0-C7BDF44C3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F221-5CCA-4D6E-8CB5-EAC1C104B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576E-29B5-4662-A0A9-1CAAB781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83EC-F854-4A62-A6BD-12BEF32F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C201-2542-42C2-8CA8-0623FE40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C01D8-76FC-49D3-A535-F53B227B1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3T01:27:34Z</dcterms:created>
  <dc:creator>FHSD</dc:creator>
  <dc:description/>
  <dc:language>en-US</dc:language>
  <cp:lastModifiedBy>FHSD</cp:lastModifiedBy>
  <dcterms:modified xsi:type="dcterms:W3CDTF">2009-02-13T01:29:49Z</dcterms:modified>
  <cp:revision>1</cp:revision>
  <dc:subject/>
  <dc:title>Slide 1</dc:title>
</cp:coreProperties>
</file>