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726E-5539-4421-99C8-EF521F83A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A4AD-F8D1-4B95-A44E-69384FAAA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F7FC-81F4-4110-94BE-89F9C4340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7227-07FF-40A6-AD58-58FB45EC4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947D-1548-43CE-9848-BEE6B3664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7431-8166-45CF-8C0D-D2419EA91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8033-6932-4817-AD80-F8B801F1C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9D73-3811-46E1-9F1D-2C4B21DC9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B564-6184-40B1-A53E-8D328B2D1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2E2E-3C11-46E5-B179-BF715A73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7776-C736-4374-8A78-8A4B4D86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98C1-9EC5-47EB-AFA3-7F3FFECE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1ACDD-FFCD-40F6-826E-99A9B6FC6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3T01:27:34Z</dcterms:created>
  <dc:creator>FHSD</dc:creator>
  <dc:description/>
  <dc:language>en-US</dc:language>
  <cp:lastModifiedBy>FHSD</cp:lastModifiedBy>
  <dcterms:modified xsi:type="dcterms:W3CDTF">2009-02-13T01:29:49Z</dcterms:modified>
  <cp:revision>1</cp:revision>
  <dc:subject/>
  <dc:title>Slide 1</dc:title>
</cp:coreProperties>
</file>