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7DC-4F9C-4478-8F7D-EC69414C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E05-45A3-4B98-A8C7-6FBE0C4E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261-0D19-4DD5-9376-10AB404B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4E3-7AA6-45FF-93B8-0C658272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36A-7465-4D81-A191-DFF4D84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D7E-2F3E-485A-9E92-E63EF345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C87-8F66-4943-B18C-BC433BB8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7B2-6E7E-4E7C-A1EE-94660023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1C4-C87B-4E81-A5AB-AA96C0D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D32-FE14-4438-9CE4-662C6D6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8EA-8E38-434E-B422-C4ED3DA6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1A3-89A9-43DF-825A-AD03C6F8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66D1-1308-44F7-906E-44A4503A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7:34Z</dcterms:created>
  <dc:creator>FHSD</dc:creator>
  <dc:description/>
  <dc:language>en-US</dc:language>
  <cp:lastModifiedBy>FHSD</cp:lastModifiedBy>
  <dcterms:modified xsi:type="dcterms:W3CDTF">2009-02-13T01:29:49Z</dcterms:modified>
  <cp:revision>1</cp:revision>
  <dc:subject/>
  <dc:title>Slide 1</dc:title>
</cp:coreProperties>
</file>