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F7C-C1F3-4B79-9344-604867A2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888-48B9-42AB-B580-0E76F9D8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EEB-84E5-4F6B-B1D0-9DED3C25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2B4-B05E-48DB-82AB-B5A0F292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165-1D03-4827-AE6D-BBE7F345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00D-E98F-4B0D-A9EE-8B115EA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946-152B-474C-A561-DD9C1D53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FB9-9DEF-48B0-AA8F-A7AC81EF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D7F-2EB7-46AB-A8C3-EBCD9D9E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EEF-E703-4816-9CEA-DC3AFE3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468-1731-4CAE-A668-D78BD6F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8A3-C253-4DF8-99E5-AE193B3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E0B1-0F33-4BF8-9183-8AB69E53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7:34Z</dcterms:created>
  <dc:creator>FHSD</dc:creator>
  <dc:description/>
  <dc:language>en-US</dc:language>
  <cp:lastModifiedBy>FHSD</cp:lastModifiedBy>
  <dcterms:modified xsi:type="dcterms:W3CDTF">2009-02-13T01:29:49Z</dcterms:modified>
  <cp:revision>1</cp:revision>
  <dc:subject/>
  <dc:title>Slide 1</dc:title>
</cp:coreProperties>
</file>