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273-2CFC-4627-8874-4C8A465D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242-EDC5-45FE-B62C-8AF9C110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B52-4950-417D-BD95-57B4403A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CD6-9A6A-44FD-B862-FB18A373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B43-2990-428C-8834-6CFB4488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FCD-C665-4199-A4EF-CC2BE7D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F33-2BCC-4982-91D7-0E6F9BF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3B7-24DA-4C96-905D-2CDC841E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E3C-70C7-40DB-A4D0-3C93E139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675-79F7-48E0-8087-16D304C8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969-1246-4824-89C0-EB705DD9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431-DB4A-4D11-BE3E-5739E63E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C323-5E41-48D9-B1C5-EB0C0E3B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8:56Z</dcterms:created>
  <dc:creator>FHSD</dc:creator>
  <dc:description/>
  <dc:language>en-US</dc:language>
  <cp:lastModifiedBy>FHSD</cp:lastModifiedBy>
  <dcterms:modified xsi:type="dcterms:W3CDTF">2009-02-13T01:46:39Z</dcterms:modified>
  <cp:revision>2</cp:revision>
  <dc:subject/>
  <dc:title>Slide 1</dc:title>
</cp:coreProperties>
</file>