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E78-BE6A-43AD-B9E6-AA1B05A7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C0D-EE80-468B-ADDA-9A2F1067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E17-D35A-4511-9290-AF9DCF7C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5BC-7279-4A9D-B2C3-FE4B670D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6BE-C531-4CCC-84EC-CB652B19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216-E03E-4A15-8445-D7E2C90B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481-42FE-4394-8C42-610CEFF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F9A-895C-4A0E-ACDE-E43C7DC7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9F3-B18F-4558-A5A2-71F8E880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5EE-B10A-4DD4-A5DC-78C53DA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7A8-9574-46E4-AC4F-0D9B779E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F6C-48A1-4F1F-9817-58E2028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DF7B-109E-4DFB-B13D-96629D7A8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38:56Z</dcterms:created>
  <dc:creator>FHSD</dc:creator>
  <dc:description/>
  <dc:language>en-US</dc:language>
  <cp:lastModifiedBy>FHSD</cp:lastModifiedBy>
  <dcterms:modified xsi:type="dcterms:W3CDTF">2009-02-13T01:46:39Z</dcterms:modified>
  <cp:revision>2</cp:revision>
  <dc:subject/>
  <dc:title>Slide 1</dc:title>
</cp:coreProperties>
</file>