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5E5-C41B-47E8-991A-DACC1D04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281-13D9-4E20-9633-2359C02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7B2-83E9-4A8B-A51A-D8945C04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310-E8AF-458A-8A27-A917E5CE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7E7-9E4F-417A-B63D-0E8101C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4D9-594F-466F-8DEB-F5996CD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9D1-EE9E-46AA-9D52-B90A0BC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027-40A6-4331-BB56-C277810F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6A8-1FD8-48B7-B9C0-EBD3130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CAB-772E-4BEA-ABDA-1274E8B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DCD-E643-4749-81C0-81C82163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D5C-091F-46A3-ACC3-61EB7AC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C6DC-271F-468E-B2DF-90B9B30F3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8:56Z</dcterms:created>
  <dc:creator>FHSD</dc:creator>
  <dc:description/>
  <dc:language>en-US</dc:language>
  <cp:lastModifiedBy>FHSD</cp:lastModifiedBy>
  <dcterms:modified xsi:type="dcterms:W3CDTF">2009-02-13T01:46:39Z</dcterms:modified>
  <cp:revision>2</cp:revision>
  <dc:subject/>
  <dc:title>Slide 1</dc:title>
</cp:coreProperties>
</file>