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A36-0169-4FCF-B61C-58003294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853-8DA0-415B-BB28-19D6A693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011-AD6C-4F26-92D3-D746A1F4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815-4560-4D57-A6BA-32965362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F0F-5F44-4EBF-AC6E-39CE843B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745-2B9A-4ECF-A290-149DC254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096-A122-40A9-9DB2-8E0B3B2F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CEA-66C8-4E28-AD2D-8EBBA66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12E-292B-4D41-A38D-E0EC083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ADE-9C6B-42E5-A2FD-E66CFEF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D65-FA74-42E1-AA19-8CE95B6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127-D793-4A23-ACDC-F8B60F3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494F-928B-4FD1-90D7-4A4522D67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8:56Z</dcterms:created>
  <dc:creator>FHSD</dc:creator>
  <dc:description/>
  <dc:language>en-US</dc:language>
  <cp:lastModifiedBy>FHSD</cp:lastModifiedBy>
  <dcterms:modified xsi:type="dcterms:W3CDTF">2009-02-13T01:46:39Z</dcterms:modified>
  <cp:revision>2</cp:revision>
  <dc:subject/>
  <dc:title>Slide 1</dc:title>
</cp:coreProperties>
</file>