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69E-571D-4E61-A32E-600DD2EF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552-03BC-42BE-A087-A77210F6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1AB-E77F-40F9-8D19-64F970BF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CBD-7260-4815-B213-18D1877E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A1C-5178-4DFC-92F6-055B0D4C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342-D8AC-4CFF-9E76-471E81B6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E51-74DB-44C6-9F1D-DED2A190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1C9-CE78-4207-9A89-6D928098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760-4B97-41B7-A1C1-B841A737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7BC-8846-4322-B031-65836C96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4FA-3242-41C6-BC51-5741369B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77E-4CDB-4C9E-993C-768A7217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8519-DBB6-457E-92BA-E17E182CC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8:56Z</dcterms:created>
  <dc:creator>FHSD</dc:creator>
  <dc:description/>
  <dc:language>en-US</dc:language>
  <cp:lastModifiedBy>FHSD</cp:lastModifiedBy>
  <dcterms:modified xsi:type="dcterms:W3CDTF">2009-02-13T01:46:39Z</dcterms:modified>
  <cp:revision>2</cp:revision>
  <dc:subject/>
  <dc:title>Slide 1</dc:title>
</cp:coreProperties>
</file>