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3D6-BFD9-4CDA-A237-19FE188A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913-461D-4090-8D55-AB2551CC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C16-D9C3-41A9-9847-F6462D88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93A-A2FF-4A93-B499-E5888829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70A-5307-4EEA-A766-7954F11B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335-9B3F-4975-8F36-63FDEA96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D76-6FB3-43C5-9C30-23899E95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116-CDD2-4A09-BEAB-867396E1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CA59-2144-4D01-80A4-7BC92750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959-29A2-4126-A27A-9A46FE64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886-BF87-4E0D-B3DB-F79914D3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82D-4DD5-437F-BE88-D7781A21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C9A5-954A-401C-95E9-FA11389EA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8:56Z</dcterms:created>
  <dc:creator>FHSD</dc:creator>
  <dc:description/>
  <dc:language>en-US</dc:language>
  <cp:lastModifiedBy>FHSD</cp:lastModifiedBy>
  <dcterms:modified xsi:type="dcterms:W3CDTF">2009-02-13T01:46:39Z</dcterms:modified>
  <cp:revision>2</cp:revision>
  <dc:subject/>
  <dc:title>Slide 1</dc:title>
</cp:coreProperties>
</file>