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FAC-4902-4C63-837E-CB0286D2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8D9-FFFF-4AAC-8D9E-590EBC7C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ED9-05BC-4D24-AC57-735A36F7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401-CCE4-4062-945B-9E1D098A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044-466D-4E67-9761-7858D268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1C5-AB78-451D-89E9-6C8F63F3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120-52E9-4483-945D-EDF2E52B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3E4-CAF9-421A-ACE9-7ABF165F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B5B-5EE3-4FE9-B46E-D4298A5A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2BD-4E3F-4F7E-8B60-98D4DF2A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AB8-226C-4779-8B5C-D9FF4E9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E4B-C362-411C-890E-6AF7826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6D8E-FA07-4159-9A96-DEF6827EA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9:55Z</dcterms:created>
  <dc:creator>FHSD</dc:creator>
  <dc:description/>
  <dc:language>en-US</dc:language>
  <cp:lastModifiedBy>FHSD</cp:lastModifiedBy>
  <dcterms:modified xsi:type="dcterms:W3CDTF">2009-02-13T01:31:17Z</dcterms:modified>
  <cp:revision>1</cp:revision>
  <dc:subject/>
  <dc:title>Slide 1</dc:title>
</cp:coreProperties>
</file>