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3CA-61D7-4CB2-BEE7-252C878C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C10-3B99-4A05-AF23-8E05AFDF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C43-1232-490A-914C-E9C8A90B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216-F5F4-4254-A022-27B84EE8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E7F-BA68-4ADB-AE2B-6FFA53E2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5F4-7FBA-442B-8625-1CC5D100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14E-2723-403D-9502-D245E706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078-48A1-412E-92CD-4FBE2AAF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FC1-6DF8-43FF-885A-10D1478C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07C-D4A8-4C1A-AC1D-9EE3ED46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FF2-53BE-404E-A9B4-B1DE50A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DCC-B924-4461-85BC-5E5C132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7764-A884-4773-96D3-07F803404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29:55Z</dcterms:created>
  <dc:creator>FHSD</dc:creator>
  <dc:description/>
  <dc:language>en-US</dc:language>
  <cp:lastModifiedBy>FHSD</cp:lastModifiedBy>
  <dcterms:modified xsi:type="dcterms:W3CDTF">2009-02-13T01:31:17Z</dcterms:modified>
  <cp:revision>1</cp:revision>
  <dc:subject/>
  <dc:title>Slide 1</dc:title>
</cp:coreProperties>
</file>