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949-A88E-4454-92A6-E160FB4A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EBD-0F27-45D8-8367-1DC4777C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607-ED1B-4A5B-801E-41F5EAB1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A4C-1D0C-48F4-9228-CBDEA601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88D-A3E9-4742-9EB0-884F40A4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540-180B-48A5-AE2F-14A52D18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3D6-D462-4E25-80CF-DB4F2E8A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D86-1DC3-4349-BB53-D635960F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FD0-B648-4160-9397-FE176275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7B9-4496-4C96-BAD6-BB229F49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0EF-24B9-442D-8550-6953A0AE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4B8-0183-455E-BC8D-11CE4DCE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8E11-E9C8-4E03-AD23-4C4AE047C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4:56Z</dcterms:created>
  <dc:creator>FHSD</dc:creator>
  <dc:description/>
  <dc:language>en-US</dc:language>
  <cp:lastModifiedBy>FHSD</cp:lastModifiedBy>
  <dcterms:modified xsi:type="dcterms:W3CDTF">2009-02-13T01:38:51Z</dcterms:modified>
  <cp:revision>1</cp:revision>
  <dc:subject/>
  <dc:title>Slide 1</dc:title>
</cp:coreProperties>
</file>