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E94-FBFC-4244-8D6B-64F0262B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C91-AA50-426A-9B14-4F28A0B5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7EA-B90F-46BD-8552-E3311E2F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37E-2596-4409-A90F-2B0363FF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B09-7CB0-4CFA-9576-51387571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9EF-9059-4848-A7BF-02C3E5F0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C39-42F8-48B5-8767-34C24515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A08-9C7F-47E4-B380-6E552452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677-B0EC-474D-AB5A-7BF0ACD1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B09-B46B-4125-8900-7EE3B03C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639-025B-425D-8157-9795C2B4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612-EA70-41ED-9085-75AB40B3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45BA-91FD-4DEE-9F6B-376C555EB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4:56Z</dcterms:created>
  <dc:creator>FHSD</dc:creator>
  <dc:description/>
  <dc:language>en-US</dc:language>
  <cp:lastModifiedBy>FHSD</cp:lastModifiedBy>
  <dcterms:modified xsi:type="dcterms:W3CDTF">2009-02-13T01:38:51Z</dcterms:modified>
  <cp:revision>1</cp:revision>
  <dc:subject/>
  <dc:title>Slide 1</dc:title>
</cp:coreProperties>
</file>