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3D1-1ED0-459A-BF6A-B94AF505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587-CA5C-418D-9ECE-89CF346D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ECD8-2437-4581-B2D7-58CE96AB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8016-063B-42A3-82EB-CDE8DC65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E55-8C9F-4D25-92B7-2B83AA53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AD9-0B1D-45C5-9B66-68AC6944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416-9C94-4F4A-8F0E-A30BB46D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1E09-7F44-448B-9E37-C74F888A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6A7-2C36-4A52-9D3F-72C5D780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2C7-B406-4740-9DF5-F5222A23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B7D-9823-4A23-AB1F-27588007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829-E464-4C0B-815F-DEC94C61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748E-C8CF-4141-B1A9-49E5C3849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29:55Z</dcterms:created>
  <dc:creator>FHSD</dc:creator>
  <dc:description/>
  <dc:language>en-US</dc:language>
  <cp:lastModifiedBy>FHSD</cp:lastModifiedBy>
  <dcterms:modified xsi:type="dcterms:W3CDTF">2009-02-13T01:31:17Z</dcterms:modified>
  <cp:revision>1</cp:revision>
  <dc:subject/>
  <dc:title>Slide 1</dc:title>
</cp:coreProperties>
</file>