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69F-8D31-405A-B297-2AE50675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7EC-BA77-4D31-B722-DDD9DBFC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326-D8D8-4BBD-B6A7-72374585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1EB-E86C-42F0-8BDE-CFB59E42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E88-12AF-4435-9C79-D3E2521B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354-42EF-4421-B155-802BE6B3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121-856F-4510-A35E-9D7B58E0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0C1-0B8C-43D5-8950-BAC734D4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990-83B9-4497-9693-D9E65B38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E9C-4FB4-4297-8EEB-E17BBAB5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70EF-90D6-4767-8F01-C90813C8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756-3B9C-4372-8C89-DC296398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D53D-2915-45CA-970C-9C7795580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29:55Z</dcterms:created>
  <dc:creator>FHSD</dc:creator>
  <dc:description/>
  <dc:language>en-US</dc:language>
  <cp:lastModifiedBy>FHSD</cp:lastModifiedBy>
  <dcterms:modified xsi:type="dcterms:W3CDTF">2009-02-13T01:31:17Z</dcterms:modified>
  <cp:revision>1</cp:revision>
  <dc:subject/>
  <dc:title>Slide 1</dc:title>
</cp:coreProperties>
</file>