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59A-0842-4F4F-99BF-5ED9A6F2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85B-CFE4-4CD4-A5A8-689FF94B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A49-C196-4D1B-9ACB-B4DC9573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221-E716-429C-A546-C72CB1E6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8A0-8D75-4A04-A966-4A0D98DD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621-18EE-478A-A94A-7BB9B8AC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026-F48D-40A9-AD19-1EC48AB6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189-B798-4143-B795-A5EE90D0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45C-9AD8-4D3D-B336-E10B0AF0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3F5-EA6D-4A18-AA21-F789A64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2F5-043A-4DD9-B547-519FE22E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01F-3FD4-4C9D-9C96-0E2DE1B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1061-7737-4164-8F69-23EA6AEC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33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astellar"/>
              </a:rPr>
              <a:t>The Great Barrier Ree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stellar"/>
              </a:rPr>
              <a:t>By: Alex Sulliv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cc00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Goudy Old Style"/>
              </a:rPr>
              <a:t>The Great Barrier Reef has many beautiful    sites to see. It is home to hundreds of living things. It is found near Austral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791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Pupcat"/>
              </a:rPr>
              <a:t>Lo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The great Barrier reef is located off the north-east coasts of Austra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0626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7cfe7c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Carbon Block"/>
              </a:rPr>
              <a:t>Lif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99"/>
                </a:solidFill>
                <a:latin typeface="Blue Highway D Type"/>
              </a:rPr>
              <a:t>The Great Barrier Reef has a ton of life in it. It is home to a ton of living creatures such as corals and fish. There are about 1,400 species of fish on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6588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200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246480"/>
            <a:ext cx="4305600" cy="3154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809880" cy="249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43400" y="304920"/>
            <a:ext cx="3672000" cy="27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952880" y="3352680"/>
            <a:ext cx="38242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Burnstown Dam"/>
              </a:rPr>
              <a:t>Clim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st of the coral reefs are in the tropics including the Great Barrier Reef. It is normally hot there, not very much rain. Only about 600 millimeters every 1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3687840"/>
            <a:ext cx="4572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urnstown Dam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The Great Barrier reef is the largest coral reef on Earth reaching 1,250 miles l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The Great Barrier Reef is the only living thing that you can see from sp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Parts of the Great Barrier Reef is more than 18 million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It is made of over 900 islands and 8,000 coral reef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761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5:13:43Z</dcterms:created>
  <dc:creator> </dc:creator>
  <dc:description/>
  <dc:language>en-US</dc:language>
  <cp:lastModifiedBy> </cp:lastModifiedBy>
  <dcterms:modified xsi:type="dcterms:W3CDTF">2009-05-20T16:22:20Z</dcterms:modified>
  <cp:revision>17</cp:revision>
  <dc:subject/>
  <dc:title>The Great Barrier Reef</dc:title>
</cp:coreProperties>
</file>