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418-3FD8-40F7-A559-40F27218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F5D-8D72-4794-8B2B-8E7F312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19E-3AAA-4C31-A4EA-67849B52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900-2E24-4448-A11B-3C1E9753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132-EF79-43CD-81FA-5EF6CF7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0E0-1ADC-426C-9090-67373C51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B5C-4447-4691-8EB4-373B4C9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9B7-4B92-4549-8F95-246CBC02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72C-78AE-4A2D-AE05-48EEBA3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E23-A5AE-43B0-AB35-68B4625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376-BCE7-4BE1-8525-9525FB1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216-EB44-45CF-971F-22995A16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BB6-84C6-4616-AAA0-3EAC9126D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33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astellar"/>
              </a:rPr>
              <a:t>The Great Barrier Ree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stellar"/>
              </a:rPr>
              <a:t>By: Alex Sulliv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cc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Goudy Old Style"/>
              </a:rPr>
              <a:t>The Great Barrier Reef has many beautiful    sites to see. It is home to hundreds of living things. It is found near Austral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Pupcat"/>
              </a:rPr>
              <a:t>Lo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Ligurino"/>
              </a:rPr>
              <a:t>The great Barrier reef is located off the north-east coasts of Austra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0626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7cfe7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Carbon Block"/>
              </a:rPr>
              <a:t>Lif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99"/>
                </a:solidFill>
                <a:latin typeface="Blue Highway D Type"/>
              </a:rPr>
              <a:t>The Great Barrier Reef has a ton of life in it. It is home to a ton of living creatures such as corals and fish. There are about 1,400 species of fish on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6588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200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46480"/>
            <a:ext cx="4305600" cy="315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3672000" cy="27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8242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Burnstown Dam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st of the coral reefs are in the tropics including the Great Barrier Reef. It is normally hot there, not very much rain. Only about 600 millimeters every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3687840"/>
            <a:ext cx="4572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urnstown Dam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largest coral reef on Earth reaching 1,250 miles 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The Great Barrier Reef is the only living thing that you can see from sp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Parts of the Great Barrier Reef is more than 18 million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mbria"/>
              </a:rPr>
              <a:t>It is made of over 900 islands and 8,000 coral reef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5:13:43Z</dcterms:created>
  <dc:creator> </dc:creator>
  <dc:description/>
  <dc:language>en-US</dc:language>
  <cp:lastModifiedBy> </cp:lastModifiedBy>
  <dcterms:modified xsi:type="dcterms:W3CDTF">2009-05-20T16:22:20Z</dcterms:modified>
  <cp:revision>17</cp:revision>
  <dc:subject/>
  <dc:title>The Great Barrier Reef</dc:title>
</cp:coreProperties>
</file>