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1A6-0428-496C-A579-E7BC6A50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6E0-D924-411B-88EC-A213AF8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6EB-3E24-450D-B646-6A3D0DA7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B46-4DAD-44E4-8458-9A927983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61B-A7A9-4CC1-9AF6-0DE80E1B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552-888F-43AB-99D5-255FD8D8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846-6664-4478-AB25-B3A9C41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239-034D-45C7-B3F2-1E126FE5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45D-1D28-44EF-BD44-B148D7F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CC9-4397-4532-A5F6-75003B8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CE8-02F8-4FEA-A44F-D7B777E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483-9FC3-4629-9C5F-476F1D1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A83-E079-459B-986A-D9C0B2C4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33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astellar"/>
              </a:rPr>
              <a:t>The Great Barrier Ree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stellar"/>
              </a:rPr>
              <a:t>By: Alex Sulliv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cc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Goudy Old Style"/>
              </a:rPr>
              <a:t>The Great Barrier Reef has many beautiful    sites to see. It is home to hundreds of living things. It is found near Austral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Pupcat"/>
              </a:rPr>
              <a:t>Lo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The great Barrier reef is located off the north-east coasts of Austra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0626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7cfe7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Carbon Block"/>
              </a:rPr>
              <a:t>Lif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99"/>
                </a:solidFill>
                <a:latin typeface="Blue Highway D Type"/>
              </a:rPr>
              <a:t>The Great Barrier Reef has a ton of life in it. It is home to a ton of living creatures such as corals and fish. There are about 1,400 species of fish on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6588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200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46480"/>
            <a:ext cx="4305600" cy="315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3672000" cy="27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8242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Burnstown Dam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st of the coral reefs are in the tropics including the Great Barrier Reef. It is normally hot there, not very much rain. Only about 600 millimeters every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3687840"/>
            <a:ext cx="4572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urnstown Dam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largest coral reef on Earth reaching 1,250 miles 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only living thing that you can see from sp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Parts of the Great Barrier Reef is more than 18 million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It is made of over 900 islands and 8,000 coral reef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5:13:43Z</dcterms:created>
  <dc:creator> </dc:creator>
  <dc:description/>
  <dc:language>en-US</dc:language>
  <cp:lastModifiedBy> </cp:lastModifiedBy>
  <dcterms:modified xsi:type="dcterms:W3CDTF">2009-05-20T16:22:20Z</dcterms:modified>
  <cp:revision>17</cp:revision>
  <dc:subject/>
  <dc:title>The Great Barrier Reef</dc:title>
</cp:coreProperties>
</file>