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D658-82F8-49EA-9AE9-6F2BBF55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91E6-485E-4702-8EC1-EAAE2B3E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DA28-EEEB-459F-BC62-87B20406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0DCC-304B-4B32-ACC8-B2B6CECB5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B4BF-A377-4F40-AA69-AB154089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AB82-AC6E-4FB4-B09E-A507549F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DDD5-A33E-4EDD-BCB3-11D41045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711E-A444-4A45-AB90-06ECD326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3645-0F0E-4348-8736-7BB8BDF1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9FA1-3DF8-4B21-A226-4DB95883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DF78-D3AF-4326-AEE2-87891EC8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331D-8432-44C8-9EC2-C4DE24F5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F7FA-7A4F-49A0-9671-D81680E70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1:34:56Z</dcterms:created>
  <dc:creator>FHSD</dc:creator>
  <dc:description/>
  <dc:language>en-US</dc:language>
  <cp:lastModifiedBy>FHSD</cp:lastModifiedBy>
  <dcterms:modified xsi:type="dcterms:W3CDTF">2009-02-13T01:38:51Z</dcterms:modified>
  <cp:revision>1</cp:revision>
  <dc:subject/>
  <dc:title>Slide 1</dc:title>
</cp:coreProperties>
</file>