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4837-A893-499F-AB2F-3AA3B8951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8227-AE88-4502-9FE2-2E110307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B23F-EFD4-41DB-B1AA-F322275A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88B8-541E-4A56-A71F-19DD942B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7879-02D4-4F56-B9F8-51F6D3E7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25EE-A124-4179-A902-73A5C07E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C21B-7EC4-45E9-B184-57AA4F9F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BDC9-986B-4B11-86ED-019004E8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40E1-84B1-4375-8C43-1FB861DC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6992-AD05-4605-A5A4-7D8E6EBD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F068-F14E-4D19-85AE-E91E0C4D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D75-C1C4-40AA-AC29-3D6D0092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A323-BD4C-4B29-BBE5-243956343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1:34:56Z</dcterms:created>
  <dc:creator>FHSD</dc:creator>
  <dc:description/>
  <dc:language>en-US</dc:language>
  <cp:lastModifiedBy>FHSD</cp:lastModifiedBy>
  <dcterms:modified xsi:type="dcterms:W3CDTF">2009-02-13T01:38:51Z</dcterms:modified>
  <cp:revision>1</cp:revision>
  <dc:subject/>
  <dc:title>Slide 1</dc:title>
</cp:coreProperties>
</file>