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085-11C0-40BA-ABE6-E883045D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8F70-6D38-4957-8571-E643A44D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0D15-3102-47F3-8626-ADD2AFF9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15B5-239B-4E33-90A7-726C39CF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7A68-4E16-4823-99E7-2B7FCD64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3BC-59C4-424E-AB82-E070B550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6079-8193-45A9-AB9F-8354A7C4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60B-1BBF-478D-9484-F5B11344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B74F-BD59-45DD-B545-A9B953FD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9AC-B239-4F0E-9F11-7BE71E62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CF47-C9ED-42E5-B28D-3CFEBA1B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19D-CED8-4A5D-87DE-8EFAEAE7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37CC-1443-4D7B-9424-A51229153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34:56Z</dcterms:created>
  <dc:creator>FHSD</dc:creator>
  <dc:description/>
  <dc:language>en-US</dc:language>
  <cp:lastModifiedBy>FHSD</cp:lastModifiedBy>
  <dcterms:modified xsi:type="dcterms:W3CDTF">2009-02-13T01:38:51Z</dcterms:modified>
  <cp:revision>1</cp:revision>
  <dc:subject/>
  <dc:title>Slide 1</dc:title>
</cp:coreProperties>
</file>