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B87-1455-41A8-AAE3-13EE325C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E98-5DBA-4E03-BDCF-1ED3538A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DCCD-65A9-4F2B-BD8C-C739A6AA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EF11-BA35-4AEC-8697-260438BD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F427-C857-42CD-A4B2-CCDE127A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113D-C26F-4D93-BD61-3ABA2C9E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77C9-C9CB-40DF-894E-3C06AD6A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A530-ECFD-4620-AE90-66573D25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6F45-DECE-4856-92F2-E53381DF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F6C8-12B3-476C-8A74-54CB2B12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96C4-23B2-426F-8C86-2D0B1DC0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C3EE-FC7C-4808-A697-21DC7D39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1404-8C8B-4C00-81AC-A016B1AFD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34:56Z</dcterms:created>
  <dc:creator>FHSD</dc:creator>
  <dc:description/>
  <dc:language>en-US</dc:language>
  <cp:lastModifiedBy>FHSD</cp:lastModifiedBy>
  <dcterms:modified xsi:type="dcterms:W3CDTF">2009-02-13T01:38:51Z</dcterms:modified>
  <cp:revision>1</cp:revision>
  <dc:subject/>
  <dc:title>Slide 1</dc:title>
</cp:coreProperties>
</file>