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9AA2-C8AC-4691-BBDC-01E6A08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3ED1-FC2D-4BCA-8383-0FBB7AF6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61B5-E5DE-427F-915A-10B93E5E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676A-957A-4081-AF8E-728EC5C4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5546-B74E-4A56-8658-C8BB3155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D6A0-485A-4ED9-A4BD-2779060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5509-3D6F-4857-9428-9DD0B4CE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6288-C004-41F0-93C2-F729FD2C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382-BCD8-460E-B919-F500DB10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1603-91EE-4881-B37B-4CD243F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57B3-2C18-4398-B888-9F689B4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6161-A2F7-4BA8-900E-5E35E7C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EA9-66A1-49FE-A026-354B30DE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20C-534F-4E30-95A5-AB40E2A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BF8-A915-49F7-AD38-40F2AFBC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3A02-E039-4A15-A544-2F016188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EFA6-36FF-479D-A909-2D6B227A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D1F1-A4C6-4985-A605-CDA52D53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3816-89B2-4312-9F81-52162535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5A4E-EEEA-4E3D-961B-94FF8FA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D6B1-7A8E-476A-AFA8-C5D66AE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8BCC-644F-4ECF-B5E9-621990CE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4567-3870-45E0-9356-1627879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57B9-E107-4DDD-8127-58212AA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FBB6-CA53-456C-99DD-9D6C046F20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1CFB-7E67-4EF4-B805-6B7995773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tpetsonline.com/pictures-gallery/exotic-pictures-breeders-babies/white-tiger-pictures-breeders-babies/pictures/white-tiger-0001.jpg&amp;imgrefurl=http://www.gotpetsonline.com/white-tiger/endangered-tiger-white/exotic-for-sale.html&amp;usg=__5V-pyX746FxD-ure2eWoVWtD5Ac=&amp;h=271&amp;w=360&amp;sz=34&amp;hl=en&amp;start=9&amp;tbnid=2E9hk8gcNDZE9M:&amp;tbnh=91&amp;tbnw=121&amp;prev=/images%3Fq%3Dwhite%2Btiger%26gbv%3D2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i.pbase.com/u37/merriwolf/upload/39444648.WhiteTiger_3594.jpg&amp;imgrefurl=http://www.pbase.com/merriwolf/image/39444648&amp;usg=__kiKm1quRByRxbS_vjdi8941LFK0=&amp;h=358&amp;w=477&amp;sz=80&amp;hl=en&amp;start=5&amp;tbnid=O1AcFjZFrGa8ZM:&amp;tbnh=97&amp;tbnw=129&amp;prev=/images%3Fq%3Dwhite%2Btiger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ite Tiger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ielle Robin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e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g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ttl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D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MOST EXTINGTED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zoos are trying to save White Tigers but they seem not to be doing so w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y are not in the zoo they would be somewhere there is land in Ind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only 100 left that seems like a lot but it really isn'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White Tigers life spa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wild they only  live 10 to15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zoo they live up to 20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ptation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Tigers have really good eye sit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our Excellent swimmer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re coat pertects them from hot or cold wea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429000"/>
            <a:ext cx="2743200" cy="206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95480" cy="20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39Z</dcterms:created>
  <dc:creator> </dc:creator>
  <dc:description/>
  <dc:language>en-US</dc:language>
  <cp:lastModifiedBy> </cp:lastModifiedBy>
  <dcterms:modified xsi:type="dcterms:W3CDTF">2009-05-18T16:12:49Z</dcterms:modified>
  <cp:revision>9</cp:revision>
  <dc:subject/>
  <dc:title>White Tiger!</dc:title>
</cp:coreProperties>
</file>