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7D84-7D09-4E05-A6DC-2338ABE9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6519-E890-444D-BCD8-90F3E371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B284-28B2-4769-B80D-415BA476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C037-556F-49D8-A8B1-8A50CBB7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06C-64C4-4731-9054-73D3EA0D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ED89-D2DD-4AC0-A133-25DDA668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9554-567F-41B7-B823-6E225B57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BBD-7315-4C39-95B0-D4FB3FA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E847-12CD-4FB3-913B-73591B5D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F56C-BF14-4A9A-95C4-C04EC9B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9F8B-B7AE-45ED-ABB6-E5EA327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F6B3-1E1A-426A-A90C-5BE6A8F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C3C-AEBD-44E3-BC8F-5302298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A8B-5EE4-420B-92E1-5E0A501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DE67-B9A3-4C27-BB6C-F98F4EA4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C47-39D8-4BA2-83C6-38F81F2C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9985-A33E-4E4E-A655-FF4F8A1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93A1-8A7F-4723-97F2-6BE7FFE1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6577-2055-406B-A49A-D4C44160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6928-5854-41E2-ACCF-93865DC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4BC8-2ED1-4FE5-B12F-0D305E2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0A4E-2413-4935-8A29-F3F9854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D540-4630-40D3-AC63-B81EFE7D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B1BE-70F4-4FAB-B76A-6DAD8CA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AE89-42A4-4E6E-BD8F-E1EE967C18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0C3-E06F-494B-8CCF-D08BB77EB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tpetsonline.com/pictures-gallery/exotic-pictures-breeders-babies/white-tiger-pictures-breeders-babies/pictures/white-tiger-0001.jpg&amp;imgrefurl=http://www.gotpetsonline.com/white-tiger/endangered-tiger-white/exotic-for-sale.html&amp;usg=__5V-pyX746FxD-ure2eWoVWtD5Ac=&amp;h=271&amp;w=360&amp;sz=34&amp;hl=en&amp;start=9&amp;tbnid=2E9hk8gcNDZE9M:&amp;tbnh=91&amp;tbnw=121&amp;prev=/images%3Fq%3Dwhite%2Btiger%26gbv%3D2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i.pbase.com/u37/merriwolf/upload/39444648.WhiteTiger_3594.jpg&amp;imgrefurl=http://www.pbase.com/merriwolf/image/39444648&amp;usg=__kiKm1quRByRxbS_vjdi8941LFK0=&amp;h=358&amp;w=477&amp;sz=80&amp;hl=en&amp;start=5&amp;tbnid=O1AcFjZFrGa8ZM:&amp;tbnh=97&amp;tbnw=129&amp;prev=/images%3Fq%3Dwhite%2Btiger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ite Tiger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ielle Robin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e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g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ttl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D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MOST EXTINGTED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zoos are trying to save White Tigers but they seem not to be doing so w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y are not in the zoo they would be somewhere there is land in Ind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only 100 left that seems like a lot but it really isn'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White Tigers life spa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wild they only  live 10 to15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zoo they live up to 20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ptation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Tigers have really good eye sit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our Excellent swimmer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re coat pertects them from hot or cold wea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429000"/>
            <a:ext cx="2743200" cy="206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95480" cy="20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39Z</dcterms:created>
  <dc:creator> </dc:creator>
  <dc:description/>
  <dc:language>en-US</dc:language>
  <cp:lastModifiedBy> </cp:lastModifiedBy>
  <dcterms:modified xsi:type="dcterms:W3CDTF">2009-05-18T16:12:49Z</dcterms:modified>
  <cp:revision>9</cp:revision>
  <dc:subject/>
  <dc:title>White Tiger!</dc:title>
</cp:coreProperties>
</file>