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DB4D8D-703C-4477-8E36-F88BE24FD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C07DD3-2B0E-4A62-BA10-422928A32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499540-2CAC-41D0-8C93-2AF72D69F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44CFB9-82AA-482B-A3FA-06948E420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18461-7EEA-436E-8D42-85AE96CFE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8648A-1B15-42B5-9DA4-8DF20DC9D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AC693-A925-4203-8110-7261B84BE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DC5D9-A222-48E8-9C32-C83EBD360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D9E43-F062-4407-9C0A-D2B76E8F5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F77B0-7E2E-472B-9D3C-8D0BE9F2C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876A1-38D4-4950-9A9E-55A8986D4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327BF1-46F2-459E-9D95-E0411E3C6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E1E6E-C6ED-47E9-8EFE-DE953AD3B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FB5DF-3087-451A-8F10-F71A1F7D5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96FEF-2C94-406A-86F8-12DE1449B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EC9D0-84DB-4CCE-9156-03A77A90C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D3C9B-A145-4A65-BAE9-EE4805E50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C85FC0-825B-4B64-A67E-0A930731E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C0E5FC-16A3-4A0F-80E6-BDDBBDE7F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6CC134-F5EA-4568-B4D9-6D20B6178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770DD0-FFF9-4C05-9EEE-479B0C68F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72EADF-C115-4511-AA2B-4B3B64EE8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F8F893-2A5B-4131-B34F-60AA8F5BE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6A1427-FFFB-4BA8-B384-7A78934FF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524B9-3E29-4CBF-ADCA-510D4F5F201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12D68-EA8A-4C3F-AA3E-5ACBB83545F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gotpetsonline.com/pictures-gallery/exotic-pictures-breeders-babies/white-tiger-pictures-breeders-babies/pictures/white-tiger-0001.jpg&amp;imgrefurl=http://www.gotpetsonline.com/white-tiger/endangered-tiger-white/exotic-for-sale.html&amp;usg=__5V-pyX746FxD-ure2eWoVWtD5Ac=&amp;h=271&amp;w=360&amp;sz=34&amp;hl=en&amp;start=9&amp;tbnid=2E9hk8gcNDZE9M:&amp;tbnh=91&amp;tbnw=121&amp;prev=/images%3Fq%3Dwhite%2Btiger%26gbv%3D2%26hl%3Den%26safe%3Dactive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images.google.com/imgres?imgurl=http://i.pbase.com/u37/merriwolf/upload/39444648.WhiteTiger_3594.jpg&amp;imgrefurl=http://www.pbase.com/merriwolf/image/39444648&amp;usg=__kiKm1quRByRxbS_vjdi8941LFK0=&amp;h=358&amp;w=477&amp;sz=80&amp;hl=en&amp;start=5&amp;tbnid=O1AcFjZFrGa8ZM:&amp;tbnh=97&amp;tbnw=129&amp;prev=/images%3Fq%3Dwhite%2Btiger%26gbv%3D2%26hl%3Den%26safe%3Dactive" TargetMode="External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White Tiger!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y: Brielle Robins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Diet: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ig,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attle,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nd Dee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LMOST EXTINGTED!!!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zoos are trying to save White Tigers but they seem not to be doing so well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f they are not in the zoo they would be somewhere there is land in India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re are only 100 left that seems like a lot but it really isn't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The White Tigers life span: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 the wild they only  live 10 to15 year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t the zoo they live up to 20 year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daptations…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hite Tigers have really good eye site,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y our Excellent swimmers,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nd there coat pertects them from hot or cold weathe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80880" y="25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e5e5ff"/>
                </a:solidFill>
                <a:latin typeface="Garamond"/>
              </a:rPr>
              <a:t>The End</a:t>
            </a:r>
            <a:endParaRPr b="1" lang="en-US" sz="6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248520" y="0"/>
            <a:ext cx="2895480" cy="211284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200400" y="3429000"/>
            <a:ext cx="2743200" cy="206388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5"/>
          <a:stretch/>
        </p:blipFill>
        <p:spPr>
          <a:xfrm>
            <a:off x="0" y="0"/>
            <a:ext cx="2895480" cy="2065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6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3T16:15:39Z</dcterms:created>
  <dc:creator> </dc:creator>
  <dc:description/>
  <dc:language>en-US</dc:language>
  <cp:lastModifiedBy> </cp:lastModifiedBy>
  <dcterms:modified xsi:type="dcterms:W3CDTF">2009-05-18T16:12:49Z</dcterms:modified>
  <cp:revision>9</cp:revision>
  <dc:subject/>
  <dc:title>White Tiger!</dc:title>
</cp:coreProperties>
</file>