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1AC6A7-BD98-498E-9F95-B8E83039C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EF467C-A1D8-4C5C-85DD-F88205854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CCE7D8-DFB6-4C42-BA39-00031329E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AC8883-7D02-4C4E-845E-D2A92996E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254C9-77EF-4915-8545-4B56096FF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01B56-3E7C-40BE-8E10-6832DC6A2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F5705-19F3-442D-A618-3C7357602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0D66A-8A6B-4E93-8E0C-37D89BBCF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E72FA-410C-4C7D-9D50-38D5260CC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1BB92-DB16-4865-97F5-0B2498D01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C66E6-530D-4667-A5CD-25AF706CD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F1E9EB-B314-4B5A-AC61-39EA1980B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30FD4-09C7-443D-8D49-11A500C8E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7A66C-E40E-4B25-9DAB-F6DCE7B94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0B94A-255C-4DF8-91CC-A0C493CDC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0D8CD-D502-4017-950F-4CCBE6E64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A6055-B977-4E4D-A546-95CB38D7B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989E17-BD1E-4838-8A42-6B12E26B3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E1FBB9-1BAE-4144-A3E0-81C4BC9D8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77BEF0-5EE5-4835-99DB-A9821C84E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36A5D1-1B6F-4D70-80A7-953733400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B5ACBD-26A6-40D3-A357-628545A6B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BA7F20-9266-4605-8A35-73DEA7A15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D60BD7-8F37-4A91-92EB-BF713C11D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AFF61-D4B1-4BCD-94BA-E46D5CC531E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39852-8B70-4809-B5C7-3107DA12832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gotpetsonline.com/pictures-gallery/exotic-pictures-breeders-babies/white-tiger-pictures-breeders-babies/pictures/white-tiger-0001.jpg&amp;imgrefurl=http://www.gotpetsonline.com/white-tiger/endangered-tiger-white/exotic-for-sale.html&amp;usg=__5V-pyX746FxD-ure2eWoVWtD5Ac=&amp;h=271&amp;w=360&amp;sz=34&amp;hl=en&amp;start=9&amp;tbnid=2E9hk8gcNDZE9M:&amp;tbnh=91&amp;tbnw=121&amp;prev=/images%3Fq%3Dwhite%2Btiger%26gbv%3D2%26hl%3Den%26safe%3Dactive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images.google.com/imgres?imgurl=http://i.pbase.com/u37/merriwolf/upload/39444648.WhiteTiger_3594.jpg&amp;imgrefurl=http://www.pbase.com/merriwolf/image/39444648&amp;usg=__kiKm1quRByRxbS_vjdi8941LFK0=&amp;h=358&amp;w=477&amp;sz=80&amp;hl=en&amp;start=5&amp;tbnid=O1AcFjZFrGa8ZM:&amp;tbnh=97&amp;tbnw=129&amp;prev=/images%3Fq%3Dwhite%2Btiger%26gbv%3D2%26hl%3Den%26safe%3Dactive" TargetMode="External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White Tiger!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y: Brielle Robins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Diet: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ig,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attle,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nd Dee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LMOST EXTINGTED!!!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zoos are trying to save White Tigers but they seem not to be doing so well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f they are not in the zoo they would be somewhere there is land in India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re are only 100 left that seems like a lot but it really isn't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The White Tigers life span: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 the wild they only  live 10 to15 year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t the zoo they live up to 20 year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daptations…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hite Tigers have really good eye site,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y our Excellent swimmers,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nd there coat pertects them from hot or cold weathe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80880" y="25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e5e5ff"/>
                </a:solidFill>
                <a:latin typeface="Garamond"/>
              </a:rPr>
              <a:t>The End</a:t>
            </a:r>
            <a:endParaRPr b="1" lang="en-US" sz="6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248520" y="0"/>
            <a:ext cx="2895480" cy="211284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200400" y="3429000"/>
            <a:ext cx="2743200" cy="206388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5"/>
          <a:stretch/>
        </p:blipFill>
        <p:spPr>
          <a:xfrm>
            <a:off x="0" y="0"/>
            <a:ext cx="2895480" cy="2065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6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3T16:15:39Z</dcterms:created>
  <dc:creator> </dc:creator>
  <dc:description/>
  <dc:language>en-US</dc:language>
  <cp:lastModifiedBy> </cp:lastModifiedBy>
  <dcterms:modified xsi:type="dcterms:W3CDTF">2009-05-18T16:12:49Z</dcterms:modified>
  <cp:revision>9</cp:revision>
  <dc:subject/>
  <dc:title>White Tiger!</dc:title>
</cp:coreProperties>
</file>