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C63-5E70-44C0-9C86-0E5EF32B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2F9-A701-4A3F-A561-970CFB9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847-BE67-40C6-9373-10EAA5A3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03F-071F-4916-99AF-CB8D89CB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6389-630C-489D-B18E-B721802A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E92-3AB1-46B9-A400-68174A46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3A85-AE12-4C4A-933F-736DC8BF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24E2-70E9-4640-B2AC-64F8496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82A4-6755-489B-9EFC-03777191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8E08-0018-42D3-8F5D-BE51BAD0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5C58-844F-42B7-8038-4E22A49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609-C318-49EE-A4F8-BD787D21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C14A-03CF-4E21-BED3-C8CC852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BF9C-F38B-4C03-A792-1AD6CC3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83D2-02DA-4DB4-BB4A-B2B102C3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58BB-BA15-42E7-8EE4-F21CE1B6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E45A-7043-4F0E-A19F-BE2F36EE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DD7A-4744-4306-807A-7475EAC7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85F1-1FB4-4B53-9A57-367AE84C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F5D6-C13E-4D54-A9DA-DA1BC25C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DC97-EDE7-4FB9-B799-ABEB9B5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C06D-7F5E-4750-AB1F-1DE1A18C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953-ABB8-4C44-A54A-77EF81E8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8F3C-A422-4ECA-9101-5621C48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691C-2D45-4EB6-AEC0-F706DE2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748D-986E-4C2B-8066-FE30DD4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32BA-1C30-4135-BBE8-1E26CEA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7EB1-C15B-4370-A264-B2F6280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E785-F369-434B-B492-FBB6517B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173C-FB1D-4919-AE58-ACF72702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5E5-CD29-4D23-8F04-38B4E52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FEF-E627-4778-A12A-565A9CBF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E4E-D6F2-4A47-A6E3-20431CE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241-6777-41D0-B288-792C4F5A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438-AA47-4C7C-A984-5C0BDF7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60F-6DC9-4D23-A3B1-3622C80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B5FB-C120-45B3-9E92-E85163CEA1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5775-08D2-485B-A5AF-6378C25A19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9AB0-4B6D-4771-99D3-34D188F55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00400" y="0"/>
            <a:ext cx="27432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ue Highway Linocut"/>
              </a:rPr>
              <a:t>American Ido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ue Highway Linocut"/>
              <a:ea typeface="Blue Highway Linocu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10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Final 2!!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17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Adam Lambert and kris Allen are the final two. One of them will win American idol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477120" y="4883040"/>
            <a:ext cx="2666880" cy="1974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Goudy Stout"/>
              </a:rPr>
              <a:t>Who started the show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Simon Cowell started the show. He is one of the judg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72040" y="3143160"/>
            <a:ext cx="317196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1828800"/>
            <a:ext cx="7697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942920" cy="2514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2144520" cy="243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515360" y="4267080"/>
            <a:ext cx="162864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1523880" y="228600"/>
          <a:ext cx="609624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ula and Cara are the 2 girl judges!!! Paula is famous because she is singer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andy and Simon are the 2 boy judges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oudy Stout"/>
              </a:rPr>
              <a:t>The win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28800" cy="46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47920" y="2438280"/>
          <a:ext cx="2437920" cy="423828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42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Kris allen is the winner!!!!!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oudy Stout"/>
              </a:rPr>
              <a:t>The end !!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5484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20:20Z</dcterms:created>
  <dc:creator> </dc:creator>
  <dc:description/>
  <dc:language>en-US</dc:language>
  <cp:lastModifiedBy> </cp:lastModifiedBy>
  <dcterms:modified xsi:type="dcterms:W3CDTF">2009-05-27T16:31:14Z</dcterms:modified>
  <cp:revision>12</cp:revision>
  <dc:subject/>
  <dc:title>Slide 1</dc:title>
</cp:coreProperties>
</file>