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4448-D53B-4566-AFAE-BB6AC391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93E-0A97-49C8-9CF0-FE60B5C5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24B-3381-47E6-BED8-F5166E43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7F69-24FA-444E-AC3F-ACD315A8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9BA3-9DA7-42E4-8C99-EFAC5FBE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8A5C-3C00-4764-8A27-AE142B7B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E64C-E3CD-449D-A740-681B9AF5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5084-086F-4BCD-8505-E74D70E9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5076-FD40-4D89-9235-8DDED25E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4BF4-BBA0-4944-ABAD-13A89CA1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33EA-DE9F-4DFF-A6CD-7B5DED1C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DAE-78E1-4178-B994-D38978DF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DE42-1238-40C0-A873-2C0FAF49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3851-D319-4448-A083-0DB813B5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D649-CD3E-459E-9653-B166A978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DEE1-D5F4-4E3D-A19F-EB44ECEE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F78A-6531-4148-9FB0-7C6D12AB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C77A8-171B-4EB2-8BFA-75D6B995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BA0C9-465B-4E8D-B1FC-F68AB830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0A50F-8D98-4046-870B-22E399A6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B61A6-A4DE-40B5-9880-D9469595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49F4E-A414-4880-BD0D-EB353AB8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E78-B51E-442D-9772-2B339800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78889-BA4D-4246-92B6-E6BEB701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64F5-7DD9-4C8E-B392-93DEF2E3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70437-9BA8-4A04-85C6-E5B442C3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1FD83-306C-4578-BC3B-FB28178D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51993-77E2-46DA-BCF1-B150E4FF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0AD5C-2D2B-4D34-99B9-C1287526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08019-0BC5-42CE-BA49-57DB3301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6D4-B5C5-42BC-B7ED-DB7C796B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5D9-8FE5-4EC8-99C1-E3DE582D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9F9-BDBE-4DCC-A0CA-EFBF0A03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2DB-6A2B-4E80-BAD5-8D9CD2D3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578F-A139-41B2-B098-9EA8B2C5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B6C-D53E-4E8D-B1AF-78A2B703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E7DD-8B67-49F6-9560-DAB47E72CA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8B57-B7B0-41F6-A115-4540AF7754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C5FA-F2ED-4F0F-BC1C-A3E451054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200400" y="0"/>
            <a:ext cx="274320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lue Highway Linocut"/>
              </a:rPr>
              <a:t>American Idol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lue Highway Linocut"/>
              <a:ea typeface="Blue Highway Linocut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819520" y="1219320"/>
            <a:ext cx="5638680" cy="56386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10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oudy Stout"/>
              </a:rPr>
              <a:t>Final 2!!!!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176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oudy Stout"/>
              </a:rPr>
              <a:t>Adam Lambert and kris Allen are the final two. One of them will win American idol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6477120" y="4883040"/>
            <a:ext cx="2666880" cy="19749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06668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Goudy Stout"/>
              </a:rPr>
              <a:t>Who started the show??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oudy Stout"/>
              </a:rPr>
              <a:t>Simon Cowell started the show. He is one of the judges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972040" y="3143160"/>
            <a:ext cx="3171960" cy="3714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1828800"/>
            <a:ext cx="7697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1942920" cy="25146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876920" y="4419720"/>
            <a:ext cx="2144520" cy="2438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7515360" y="4267080"/>
            <a:ext cx="1628640" cy="259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1523880" y="228600"/>
          <a:ext cx="6096240" cy="29718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9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ula and Cara are the 2 girl judges!!! Paula is famous because she is singer!!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andy and Simon are the 2 boy judges!!!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Goudy Stout"/>
              </a:rPr>
              <a:t>The winn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28800" cy="465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1447920" y="2438280"/>
          <a:ext cx="2437920" cy="4238280"/>
        </p:xfrm>
        <a:graphic>
          <a:graphicData uri="http://schemas.openxmlformats.org/drawingml/2006/table">
            <a:tbl>
              <a:tblPr/>
              <a:tblGrid>
                <a:gridCol w="2437920"/>
              </a:tblGrid>
              <a:tr h="42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Kris allen is the winner!!!!!!!!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Goudy Stout"/>
              </a:rPr>
              <a:t>The end !!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400800" cy="5484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6:20:20Z</dcterms:created>
  <dc:creator> </dc:creator>
  <dc:description/>
  <dc:language>en-US</dc:language>
  <cp:lastModifiedBy> </cp:lastModifiedBy>
  <dcterms:modified xsi:type="dcterms:W3CDTF">2009-05-27T16:31:14Z</dcterms:modified>
  <cp:revision>12</cp:revision>
  <dc:subject/>
  <dc:title>Slide 1</dc:title>
</cp:coreProperties>
</file>