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046-AD68-44EF-ACBB-01DFFAC0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E26-4E58-4499-8849-3DB50E55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18B-BB6D-4BAA-AF9D-6B474EB1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63E-F98C-4D1C-97E0-4C10066B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3329-68F6-49C8-994C-E6437AFC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0594-A877-4D93-996A-1952A7EC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EE22-F4CF-484D-B18E-5E3B3561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6EBF-22DA-4A3F-B9E0-03738B00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E2E3-7583-49D9-A77E-3AA7122A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6C66-29AC-43EB-9910-371D4841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A18F-1AD3-4C54-9F64-6EEEB9DE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A72-C900-4EA8-91BA-451A1F5D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E4BD-FF32-446E-8E8C-4BFCE0D1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73DD-526F-4E5A-943F-CE72AABA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2858-42DE-4AE5-A3E5-183CFD8B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AAC3-2C13-421F-A8FB-2A8DD3C0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C944-5179-4488-8933-959852A0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4D87F-D2CE-495E-ACBA-0A89DE44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5897-61B5-42C8-BA90-D1FFE656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2547-2D32-449D-9461-CEB02394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9C2E-F0CE-4CF7-95E6-F93DFDAD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7151C-D4CA-43B6-A406-FA77E6BF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184-17DA-47D2-8048-FA1171AA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3AB6-EBB8-4C72-B3D7-EF45C116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4CDE-379A-4AFC-8BE9-A2B5067D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E529A-2238-441B-9ACF-6EF1AEF2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CA35-F776-4ED6-9632-FE49267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D399-52C1-463B-9DA9-1FC61D2E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C198-5F6F-469E-81DB-65D0BB1C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AECE-1D94-4F5E-9810-1C51CD1B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AE2-1316-4FE2-BF88-E03BF9CE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748-8FF8-4AD4-94DE-601AEE69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404-AAB6-463A-8BBA-C87B13D7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927-6784-4CB6-86CA-52CEB3B2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763-F3FF-440D-9D8E-880121E4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CFA-EE92-4AFB-8981-2C3EBF38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1358-4EA3-49B6-8D91-9716C65C83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5837-A3D1-4646-97BF-021759474B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45C7-4103-48DB-A78E-AA12D1925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00400" y="0"/>
            <a:ext cx="27432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ue Highway Linocut"/>
              </a:rPr>
              <a:t>American Idol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ue Highway Linocut"/>
              <a:ea typeface="Blue Highway Linocut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10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oudy Stout"/>
              </a:rPr>
              <a:t>Final 2!!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176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oudy Stout"/>
              </a:rPr>
              <a:t>Adam Lambert and kris Allen are the final two. One of them will win American idol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477120" y="4883040"/>
            <a:ext cx="2666880" cy="1974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0666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Goudy Stout"/>
              </a:rPr>
              <a:t>Who started the show??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oudy Stout"/>
              </a:rPr>
              <a:t>Simon Cowell started the show. He is one of the judge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972040" y="3143160"/>
            <a:ext cx="3171960" cy="3714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1828800"/>
            <a:ext cx="7697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942920" cy="2514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2144520" cy="2438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7515360" y="4267080"/>
            <a:ext cx="162864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1523880" y="228600"/>
          <a:ext cx="6096240" cy="2971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ula and Cara are the 2 girl judges!!! Paula is famous because she is singer!!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andy and Simon are the 2 boy judges!!!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oudy Stout"/>
              </a:rPr>
              <a:t>The win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28800" cy="465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1447920" y="2438280"/>
          <a:ext cx="2437920" cy="4238280"/>
        </p:xfrm>
        <a:graphic>
          <a:graphicData uri="http://schemas.openxmlformats.org/drawingml/2006/table">
            <a:tbl>
              <a:tblPr/>
              <a:tblGrid>
                <a:gridCol w="2437920"/>
              </a:tblGrid>
              <a:tr h="42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Kris allen is the winner!!!!!!!!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oudy Stout"/>
              </a:rPr>
              <a:t>The end !!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400800" cy="5484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6:20:20Z</dcterms:created>
  <dc:creator> </dc:creator>
  <dc:description/>
  <dc:language>en-US</dc:language>
  <cp:lastModifiedBy> </cp:lastModifiedBy>
  <dcterms:modified xsi:type="dcterms:W3CDTF">2009-05-27T16:31:14Z</dcterms:modified>
  <cp:revision>12</cp:revision>
  <dc:subject/>
  <dc:title>Slide 1</dc:title>
</cp:coreProperties>
</file>