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2DB62-EBB9-4D7C-98C9-6077D9A0A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650FA-0D10-4BB3-A21E-AE646B804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89D2A-CA65-4DF6-9278-F71205459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04D96-CD59-43EB-95AF-24CC8D09A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B82AC-8211-4007-BFCD-1DC599036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9608A-1916-4C1F-86C7-056091288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25447-B7B8-49E9-B187-1C5C97C24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84E7F-6C47-4E99-B2BD-FF923634C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31F6F-07BA-4328-9B2E-92B3ED767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5E825-72BA-4189-A834-BA3DA2923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034BC-8DF4-41E5-80E3-331EBB39C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274AC-3163-44FD-A25D-EEF578E58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016CB-56A5-4018-87A4-1315B3785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58C3B-9D87-4D06-9A9D-DC15C2B25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11FB4-A602-43DB-9FB3-90EEB6FC9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FC67A-879A-419C-A9C4-55DCCAE08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F9D54-348E-447A-932E-B6AB7D51D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5B9565-9554-4A79-B5D0-16871FF68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2E982D-F05D-45C0-B110-4C0EF3175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33AF76-4B05-4EF9-9CC4-306AC9EA6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22DDE5-C575-4E0E-8F3A-41BEBF99F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B88808-A18B-4DCE-8A96-1D55A8E3F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07CAB-2BCE-49FC-97A1-CEF2BF4E2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B171FF-FF4E-4DD2-9700-8C73C1D6E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55C0EE-25F1-48B6-AAB4-507EA9FAD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48F780-6B5B-4ADC-BD70-38F8F24BA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259F3E-BC52-4256-AED1-6527727A9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21D90D-B329-499B-8283-0935E5454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D30208-EB68-474B-B802-884A45953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9F2FD7-230E-46B3-B70C-DE91A1600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F2B40-73DC-4EA9-8C93-3DB37FBF2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48F5F-AF29-4032-B9BA-5B45D1FC1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ED66E-1830-4326-876E-3F6AED342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EF7FF-6362-45A8-8A19-771C81A13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CF563-1387-403E-B0CA-E094E269F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2365A-1DF2-47BB-8505-13A0C0E93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5256E-2106-4215-9047-7B7F2B892BB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B6B84-A080-415D-88C4-D3A42D762D8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88419-755E-44AC-9410-6061CA1DE2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3200400" y="0"/>
            <a:ext cx="2743200" cy="89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Blue Highway Linocut"/>
              </a:rPr>
              <a:t>American Idol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Blue Highway Linocut"/>
              <a:ea typeface="Blue Highway Linocut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2"/>
          <a:stretch/>
        </p:blipFill>
        <p:spPr>
          <a:xfrm>
            <a:off x="2819520" y="1219320"/>
            <a:ext cx="5638680" cy="563868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3"/>
          <a:stretch/>
        </p:blipFill>
        <p:spPr>
          <a:xfrm>
            <a:off x="0" y="4000680"/>
            <a:ext cx="2857680" cy="28573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110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oudy Stout"/>
              </a:rPr>
              <a:t>Final 2!!!!!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7315200" y="0"/>
            <a:ext cx="1828800" cy="1817640"/>
          </a:xfrm>
          <a:prstGeom prst="rect">
            <a:avLst/>
          </a:prstGeom>
          <a:ln w="0">
            <a:noFill/>
          </a:ln>
        </p:spPr>
      </p:pic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Goudy Stout"/>
              </a:rPr>
              <a:t>Adam Lambert and kris Allen are the final two. One of them will win American idol!!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2"/>
          <a:stretch/>
        </p:blipFill>
        <p:spPr>
          <a:xfrm>
            <a:off x="6477120" y="4883040"/>
            <a:ext cx="2666880" cy="197496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3"/>
          <a:stretch/>
        </p:blipFill>
        <p:spPr>
          <a:xfrm>
            <a:off x="1066680" y="4724280"/>
            <a:ext cx="2133720" cy="21337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Goudy Stout"/>
              </a:rPr>
              <a:t>Who started the show??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Goudy Stout"/>
              </a:rPr>
              <a:t>Simon Cowell started the show. He is one of the judges!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5972040" y="3143160"/>
            <a:ext cx="3171960" cy="37148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1828800"/>
            <a:ext cx="76975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2590920" y="4343400"/>
            <a:ext cx="1942920" cy="251460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2"/>
          <a:stretch/>
        </p:blipFill>
        <p:spPr>
          <a:xfrm>
            <a:off x="4876920" y="4419720"/>
            <a:ext cx="2144520" cy="243828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3"/>
          <a:stretch/>
        </p:blipFill>
        <p:spPr>
          <a:xfrm>
            <a:off x="0" y="457200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4"/>
          <a:stretch/>
        </p:blipFill>
        <p:spPr>
          <a:xfrm>
            <a:off x="7515360" y="4267080"/>
            <a:ext cx="1628640" cy="2590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70" name=""/>
          <p:cNvGraphicFramePr/>
          <p:nvPr/>
        </p:nvGraphicFramePr>
        <p:xfrm>
          <a:off x="1523880" y="228600"/>
          <a:ext cx="6096240" cy="2971800"/>
        </p:xfrm>
        <a:graphic>
          <a:graphicData uri="http://schemas.openxmlformats.org/drawingml/2006/table">
            <a:tbl>
              <a:tblPr/>
              <a:tblGrid>
                <a:gridCol w="3048120"/>
                <a:gridCol w="3048120"/>
              </a:tblGrid>
              <a:tr h="297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aula and Cara are the 2 girl judges!!! Paula is famous because she is singer!!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Randy and Simon are the 2 boy judges!!!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sh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ff"/>
                </a:solidFill>
                <a:latin typeface="Goudy Stout"/>
              </a:rPr>
              <a:t>The winn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4876920" y="1981080"/>
            <a:ext cx="3628800" cy="4657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73" name=""/>
          <p:cNvGraphicFramePr/>
          <p:nvPr/>
        </p:nvGraphicFramePr>
        <p:xfrm>
          <a:off x="1447920" y="2438280"/>
          <a:ext cx="2437920" cy="4238280"/>
        </p:xfrm>
        <a:graphic>
          <a:graphicData uri="http://schemas.openxmlformats.org/drawingml/2006/table">
            <a:tbl>
              <a:tblPr/>
              <a:tblGrid>
                <a:gridCol w="2437920"/>
              </a:tblGrid>
              <a:tr h="423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Goudy Stout"/>
                        </a:rPr>
                        <a:t>Kris allen is the winner!!!!!!!!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sh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Goudy Stout"/>
              </a:rPr>
              <a:t>The end !!!!!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1295280" y="1143000"/>
            <a:ext cx="6400800" cy="548496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2"/>
          <a:stretch/>
        </p:blipFill>
        <p:spPr>
          <a:xfrm>
            <a:off x="0" y="3962520"/>
            <a:ext cx="2895480" cy="28954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6T16:20:20Z</dcterms:created>
  <dc:creator> </dc:creator>
  <dc:description/>
  <dc:language>en-US</dc:language>
  <cp:lastModifiedBy> </cp:lastModifiedBy>
  <dcterms:modified xsi:type="dcterms:W3CDTF">2009-05-27T16:31:14Z</dcterms:modified>
  <cp:revision>12</cp:revision>
  <dc:subject/>
  <dc:title>Slide 1</dc:title>
</cp:coreProperties>
</file>