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F55-2B44-4E14-A843-4F167F1B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41D-9869-4509-9D55-A31DB5FD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41D-FF8D-4817-A9AF-CCA354AA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BD9-BC85-4667-A004-BDEB77C7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4CD3-9F3C-4FE0-807E-48A0D8DC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42A2-C3D4-4E62-848C-75D5C4EA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3D67-EF61-4D79-A0A6-418F77C3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B723-E8AF-405A-B1EE-8D2F9620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77BC-197E-4244-992D-3636CCD2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ED41-F7D7-44E1-AB8E-19C58FCF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F5CF-ABA4-45AA-89B0-F162C176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B1E-C0F0-4696-96CE-35FE2CB8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8C6A-E8D7-4B5E-8DD6-39CEFF14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4D70-0779-4606-B63E-D9E8F18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5353-9FDD-4C10-8469-82936D7D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493A-E2A7-4D5F-8925-C18E4414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59C1-DF01-4EB3-88F7-30A12B5A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FCA-E749-48CE-B841-4A009D9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7F1-DDF3-4218-8D42-00E912D3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421-5E83-4A3F-BF9A-16E881B1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C4E-A42A-4579-809F-E1623EDF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EF6-F6BE-4DF8-9189-6425951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CE4-E3E0-4ADA-B933-8773C85A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88E-69FC-4DD0-9FB9-323D2A65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582-6A6F-4C5B-B81D-82E998C69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8915-5BA2-44D9-A3E6-F8DDEC70F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ive American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486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did for fu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lacrosse to p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play t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did to surv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unted deer and fish to 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used battle axes at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ant to take food from  the animals they couldn’t with out a f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4105440"/>
            <a:ext cx="3657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ttle ax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 axes were used a lot by the Indi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2589120"/>
            <a:ext cx="57150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hunt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hunt deer and f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hunt certain kinds of fish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87692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95680" y="3373560"/>
            <a:ext cx="46483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dator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023840"/>
            <a:ext cx="80773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unters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nters do the hunting and the others would take care of the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323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6:11:35Z</dcterms:created>
  <dc:creator> </dc:creator>
  <dc:description/>
  <dc:language>en-US</dc:language>
  <cp:lastModifiedBy> </cp:lastModifiedBy>
  <dcterms:modified xsi:type="dcterms:W3CDTF">2009-05-27T16:30:35Z</dcterms:modified>
  <cp:revision>24</cp:revision>
  <dc:subject/>
  <dc:title>Slide 1</dc:title>
</cp:coreProperties>
</file>