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EE9-D2E8-4E90-AF7C-AA965755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05C-617B-4C99-B49E-21E8EFF9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1FE-EB88-4AFA-BAFB-DF32DA49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768-87A5-48F5-BA59-41557A71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19EC-2BF8-45EF-8EB7-DA559F0F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4E14-E2F1-4980-8557-49FF93BC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3BEB-2331-4995-B7EC-2E3F7F5F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24AA-1652-4E2C-9E60-5453A6C6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81F9-9865-4C96-9278-BB6EBC12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08A8-A875-46A3-8845-4FB35FB5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31DD-E9F6-4099-9EEE-D866E99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498-6D6F-4D93-9128-4E3EBD55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7E08-CEC5-44EC-BB77-B3098A0F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0B58-63CE-487E-A2C8-59191B6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6C5B-8184-48CF-9AE3-FB263068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D589-BAF6-4B33-8031-924FBA33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F0F2-332C-4D78-AE15-17919EE6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9D2-104E-4224-8778-F9427CFC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9CB-AD5A-4631-9572-7794DB39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BF7-EE17-4474-8AAC-3F7C5CE1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D9B-2F7D-41B4-919D-FA1112F0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552-6B0F-4579-9039-6BE2B6FD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404-E0F2-4C5F-950F-23EBBA5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9D8-9BD0-4112-A11F-19C7F48B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49C5-23CC-41C8-9A1A-68DDD4249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62D1-CB13-4644-8902-F11DD8A7A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ive American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486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did for fu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lacrosse to p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play t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did to surv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unted deer and fish to 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used battle axes at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ant to take food from  the animals they couldn’t with out a f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4105440"/>
            <a:ext cx="3657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ttle ax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 axes were used a lot by the Indi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2589120"/>
            <a:ext cx="57150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hunt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hunt deer and f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hunt certain kinds of fish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87692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95680" y="3373560"/>
            <a:ext cx="46483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dator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023840"/>
            <a:ext cx="80773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unters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nters do the hunting and the others would take care of the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323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6:11:35Z</dcterms:created>
  <dc:creator> </dc:creator>
  <dc:description/>
  <dc:language>en-US</dc:language>
  <cp:lastModifiedBy> </cp:lastModifiedBy>
  <dcterms:modified xsi:type="dcterms:W3CDTF">2009-05-27T16:30:35Z</dcterms:modified>
  <cp:revision>24</cp:revision>
  <dc:subject/>
  <dc:title>Slide 1</dc:title>
</cp:coreProperties>
</file>