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4701-BE06-4E43-947C-59CFE276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751B-DDCC-4726-B095-2F50C5DD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C5B-5C83-497E-BF81-E95F2330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F04-41FC-4306-90B0-7E33A36B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579D-2B45-4A00-BC87-E2572411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994A-F50A-498C-8FE1-3D93C341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B15E-1DD5-4BE7-A02E-94935364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B25B-F634-41A2-A8B4-F3590EB4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111A-5A4D-4B63-AF33-DE0498B2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0C7B-716C-4D0E-BB78-BE19F5A3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CCD7-A3F4-4BF7-B76B-744D53CA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757-413D-4EEC-9A8F-FA0B7F46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AF39-C4F0-43BC-BF40-71014EBA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65E8-21DE-466A-9339-3EED58FF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8829-78BB-4E8B-8C8F-7240BFE5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F5A6-6586-495D-8336-0887150B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8F69-624B-4389-A39A-0A37E331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AE76-AA1F-41E6-80DC-AA26FDEC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315-7544-4535-B3BF-A71F9D18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769A-6F3B-4563-AB49-744E662A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B530-CB6C-4109-8CE0-EC4CA6A0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AB9F-51C9-40AE-BFA5-F238186A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B97-3ED7-4E33-9691-0F80D708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C94-58A1-4518-9B36-8E2CE217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0F24-B6CD-4F39-976F-3DAA048205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36E7-643C-4B32-83BB-C883DDC1BA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Native American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486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they did for fu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lacrosse to pl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ould play t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they did to survi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unted deer and fish to e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used battle axes at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want to take food from  the animals they couldn’t with out a f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4105440"/>
            <a:ext cx="3657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ttle ax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le axes were used a lot by the Indi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8120" y="2589120"/>
            <a:ext cx="57150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they hunt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ould hunt deer and fi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ould hunt certain kinds of fish on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87692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495680" y="3373560"/>
            <a:ext cx="46483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dators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023840"/>
            <a:ext cx="80773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unters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unters do the hunting and the others would take care of the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3230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6:11:35Z</dcterms:created>
  <dc:creator> </dc:creator>
  <dc:description/>
  <dc:language>en-US</dc:language>
  <cp:lastModifiedBy> </cp:lastModifiedBy>
  <dcterms:modified xsi:type="dcterms:W3CDTF">2009-05-27T16:30:35Z</dcterms:modified>
  <cp:revision>24</cp:revision>
  <dc:subject/>
  <dc:title>Slide 1</dc:title>
</cp:coreProperties>
</file>