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B2E-E539-4D3C-9D96-69BB44EE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3A7-46C7-45C7-99F7-1C195619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65BC-E3F0-4301-890B-6202139E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5EBD-3E79-400E-BA39-57828EB8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C0A5-246D-4ED9-B7CD-320E7E1F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7A88-740C-444E-B740-82DBD836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ACBE-23A8-47F8-BC51-FA3D49A1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E3A3-CD82-4D32-A6E8-86D535E8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0A58-6E7E-40F0-B00A-9DB4AB6F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0E2D-C167-40AE-B59C-51CED0B1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0191-F349-4B1D-B480-378903D4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BDF-E052-4F65-B0DB-F08CE3F2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0E0B-66D7-426E-B57F-A56CB955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B95D-B50D-45C6-974D-93329883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36BB-E5FA-47FC-8C3A-E8B35868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B4F4-D16D-469D-B0D4-91AC14DA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83F6-F8A3-41E9-BA33-BFE75FAC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EE4-584F-4067-B7AB-AC89C69C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B92C-03B2-44CF-A921-D306473C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AC3B-53D0-4813-AE06-B8A6F2D8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71A2-0311-4C8F-8CA0-371049D8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FF2-940D-466A-9913-E616CB21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EF9-0BB3-4C53-BADB-EE8F3585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87F3-810B-48C7-8FB0-2D6AC67C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6E0B-1E3C-4670-B101-430412F31F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1B79-E08B-4E24-8C5C-B6DD15918F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Native American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486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they did for fu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lacrosse to pl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ould play t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they did to survi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unted deer and fish to e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used battle axes at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want to take food from  the animals they couldn’t with out a f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4105440"/>
            <a:ext cx="3657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ttle ax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le axes were used a lot by the Indi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8120" y="2589120"/>
            <a:ext cx="57150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they hunt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ould hunt deer and fi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ould hunt certain kinds of fish on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87692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495680" y="3373560"/>
            <a:ext cx="46483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dators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023840"/>
            <a:ext cx="80773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unters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unters do the hunting and the others would take care of the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3230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6:11:35Z</dcterms:created>
  <dc:creator> </dc:creator>
  <dc:description/>
  <dc:language>en-US</dc:language>
  <cp:lastModifiedBy> </cp:lastModifiedBy>
  <dcterms:modified xsi:type="dcterms:W3CDTF">2009-05-27T16:30:35Z</dcterms:modified>
  <cp:revision>24</cp:revision>
  <dc:subject/>
  <dc:title>Slide 1</dc:title>
</cp:coreProperties>
</file>